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877A-C2A4-4847-B517-7F5374F40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05F9-7EAE-43E5-A631-56BC4D76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9BB6-615F-4209-9298-7F799A99B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3525-3AD7-41D6-BE65-46149B4AD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7C90-F0CC-4FE7-A196-A5744921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3A3A-7C8C-4B05-AC5F-B98A9B77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51B0-3064-4115-ACD5-B03C6C0A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568D-EAC3-45E1-BC64-4698FEE2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B82A-900B-438E-86A1-2A792E2C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ED90-01A1-4E29-B6CE-C44B6DDF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8422-603C-4D83-B28B-B04CE6A5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DBCF-4749-4CF4-A606-49E9CB9D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3A94-F834-4D2F-97C4-F61625FD0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1320" y="2165400"/>
            <a:ext cx="6578640" cy="30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ceptr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J. Wat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mike.watts.net.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ceptron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755800" y="2017800"/>
            <a:ext cx="370836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ceptron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shold neurons are used in the perceptron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shold can be a step function or a linear threshold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ases can be used to create the effect of a thresh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ceptron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ptron re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agate a signal from buffer to perceptron 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 elements are multiplied by the connection weight at each 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is the activation of the output (perceptron) neu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ceptron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 learning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ises classification err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ceptron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propagate an input vector through the percept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calculate the error for each output neuron by subtracting the actual output from the target outp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modify each 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repeat steps 1-3 until the perceptron conver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833640"/>
            <a:ext cx="1374840" cy="347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656240" y="4400640"/>
            <a:ext cx="237312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ceptron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88680" y="2157120"/>
            <a:ext cx="8791560" cy="24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error measures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row-Huff learning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a system call ADA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ive LINEar neu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87560" y="4678200"/>
            <a:ext cx="285264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with Perceptr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sky and Papert (196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ematically prove limitations of percep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d most AI researchers of the time to return to symbolic 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Linear Separability”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ptrons can only distinguish between classes separated by a pl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Separ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52600" y="2324160"/>
            <a:ext cx="622296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Separ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88680" y="2138040"/>
            <a:ext cx="879156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OR problem is not linearly separ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th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112760" y="3333600"/>
            <a:ext cx="64166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Separ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833480" y="2141640"/>
            <a:ext cx="585000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ture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 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ptron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ptron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with percep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Separ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oblem killed research into A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 field was moribund for &gt;10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s for this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pla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Separ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yperplane is a plane of &gt;3 dim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 dimensions it is a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output neuron in a perceptron corresponds to one hyper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ensionality of the hyperplane is determined by the number of incoming conn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Separ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sition of the hyperplane depends on the weight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 threshold the hyperplane will pass through the ori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problems with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shold / bias allows the hyperplane to be positioned away from the ori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Separ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involves positioning the hyper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hyperplane cannot be positioned to separate all training examples, then the algorithm will never conve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ver reach 0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Perceptr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d to converge over linearly separable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analy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l 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advantages of Perceptr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not model non-linearly separable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roblems may require a bias or threshold para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taken seriously any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ptrons are the oldest neural networ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first uses of the McCulloch and Pitts neu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 learning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useful for some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not handle non-linearly separable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Re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ficial neu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ematical abstractions of biological neu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functions associated with each neu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Culloch and Pitts neuron the first to be desig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Re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ficial Neural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ons of connected artificial neu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onnection has a weighting value attached t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 can be positive or neg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lay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s are propagated from one layer to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ceptron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NN using McCulloch and Pitts neu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by Rosenblatt in 195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to study theories about the visua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ed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ceptron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dfor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s travel only 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ecurrent conn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s are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s are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for class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ceptron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neuron lay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is a buffer, usually igno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is the input or "feature" 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is the output or "perceptron" 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ceptron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fer neurons are arbitrarily connected to feature neu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one-to-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buffer neuron is connected only to the corresponding feature neu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combine multiple buffer values into one fe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on weight values from buffer to feature layer are f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ceptron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 neurons are fully connected to perceptron neu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feature neuron is connected to every perceptron neu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ghts from feature to perceptron layer are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modifiable connection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layer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