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C22-A5FE-409F-AECB-EE7905F4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E33-E6F0-4C01-97CA-2A87ECDD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989-932F-4EED-99C0-2748E779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42C-25C1-4663-9EB6-4C0F5673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D3D-F4DC-43F7-A94A-D177D10E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FFE-CB54-4AD5-9FDB-E6AE80F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CC8-826F-48F1-8024-F5DB25E5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CC7-65F4-42A2-A4BE-D04158C8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D59-0BC8-412A-8DD6-1433A57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1B3-F145-4C32-A81B-7A210E5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85E-5A5D-4E07-A201-142D8448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106-5AB9-4535-9BFE-DCAB5F7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0D16-89FD-4204-AD5E-E33B6C06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and 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is caused by ion gates opening in the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Na ion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ions then force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s potential wrt inside and out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becomes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become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 function sequentially along the ax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returns to normal as ion balance is re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 cannot fire again until the resting potential is re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uron is all or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fire or not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is always the same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ing can emit a “spike tra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spikes influenced by level of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timulation = higher frequency sp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ons join to other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between them is called a synap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s are carried across the gap by neurotrans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cet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neurotransmitter depends on “strength” of neuron f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transmitters effect the functioning of the ion p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ite / inhibit flow of Na ions into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he potential of the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transmitters cleaned up by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of neurons can depend on thi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apses can excite the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atory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apses can inhibit the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ory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amounts of neurotransmitter are released across each synap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apses have different “strength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apses that are used more, are str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bian 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by Donald Hebb in 19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connected neurons are simultaneously activated, then the connection between them will be strength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mathematical models of biologic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on’t attempt to model biologic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odel developed by McCulloch and Pitts in 19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ulloch and Pitts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olea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 or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fire if the inputs exceed the threshol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me dimension (discr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tificial neurons have three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put transform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utput transform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transformation functions process the incoming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multiply and 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ion functions process the input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ed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m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nctions process the outgoing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oes in is what come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0000" y="2084400"/>
            <a:ext cx="6300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Linear Activat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up to a certain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0000" y="3459240"/>
            <a:ext cx="63673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moid Activat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f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68440" y="3814920"/>
            <a:ext cx="5985000" cy="3181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22680" y="2170080"/>
            <a:ext cx="20844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twork of interconnected artifici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between neurons have variabl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is fed through the connections and processed by the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sum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when a neuron is receiving signal from othe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ing neurons each have an outpu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nnection has a we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each output value by the connectio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h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n ANN is the process of setting the conne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arameter optimis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advantage of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know specifics of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rule 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an be of two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lgorithm will try to match known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known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lgorithm will try to learn structur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known output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stored in conne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are also called connectionis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an be discovered using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via rule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performance can also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-box” character biggest drawback to using ANN i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quishy bits” in our b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uron is a singl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ocesses leading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leading out of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kinds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covering only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ayer Perceptrons (M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honen Self-Organising Maps (S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networks are used depends on the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s useful for simp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s handle problems perceptrons can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linearly se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find clusters i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lear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must be taken with the data used to train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asy to badly train an 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ircumstances where ANN don’t function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ons are specialise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t signals in response to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compl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al networks are extremel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number of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not entirely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ons are abstractions of re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mathemat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function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of these neurons are called artifici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stored in the connection weightings of thes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n ANN is setting these conne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learn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kinds of ANN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opula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honen S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14400" y="2027160"/>
            <a:ext cx="5580000" cy="416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1920" y="6519960"/>
            <a:ext cx="6458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Kasabov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ons branch and connect to other neurons and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in a sheath of mye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in myelin called “nodes of Ranvi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travel of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are electro-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potential difference between inside and outside of ax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is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70 mV PD inside-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t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difference is due to different concentrations of sodium (Na) and potassium (K)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pumps remove Na from the cell while importing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neuron is stimulated, the ion concentrations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 change in the potential of the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the resting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 fires when it reaches a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neuron fires, the potential drops down below the resting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iring, returns to resting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ing causes a spike of potential to travel along the ax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