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BDAF-6BA0-423C-9E66-5E3DEAEC5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21D4-A0BF-4093-80D6-71E42C52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CBF4-C7E8-423F-B225-8ECB01731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A026-6BCD-4D16-A654-96F0A4D35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C4D7-C488-479E-BC6A-A415F1FE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5AA7-FF66-4C16-B8BC-3320B105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6427-A0B3-4850-A0C7-62B70D53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B3C1-E30D-4EC1-8187-D3E90784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5E8A-0420-4C6E-9571-CC440DCD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523B-962F-4CC2-B7D1-3DB09E28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F7F7-9321-4B2B-85D6-093378E0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D48B-7C55-4017-9F5C-044A0A6D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A8A6-3142-4B80-B5AA-5DB429D5D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1320" y="2176560"/>
            <a:ext cx="6578640" cy="30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 of fuzzy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J. Wat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mike.watts.net.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ris 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te classification can be performed with the appropriately defined MF and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12 rules will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al MF are harder to 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mathematical systems to transform the current state of a system and the desired state of a system into a future state of a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State + Desired State = Influ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iour of the system must be modelable by a mathematical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scale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handle non-monotonic function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zzy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s mathematical approximations with a fuzzy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define actions for specific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gest application area of fuzzy log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rted pendulu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ai subway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hing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ted Pendul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c fuzzy control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is to keep an inverted pendulum balanced on a mobile plat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tform can move left and righ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d by an electric mo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or can operate at different sp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led by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ted Pendul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438280" y="2141640"/>
            <a:ext cx="51674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ted Pendul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inpu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le of pendul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or ne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ular speed of pendul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or ne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to mo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or ne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ted Pendul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9040" y="2138400"/>
            <a:ext cx="500688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F range from “Negative Small” (NL) to “Positive Large” (PL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770440" y="2075040"/>
            <a:ext cx="3699000" cy="52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ted Pendul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has been used as a demo for fuzzy control c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e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dai Sub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ground train in Sendai, Jap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zzy system contr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 accel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zzy controller m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ate to target 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 accur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e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fuzzy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 recognition / Clas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zz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 m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dai Sub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obtained from experienced train driv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effici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por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hing Mach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sch - Washing Machine - WOL2200 - Free Stan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emium Fuzzy Log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op loader washing machine with 1100 rpm spin and 15 Clothes Care wash programmes. 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http://www.itlocal.co.uk/rdo/acatalog/Online_Catalogue_FREESTANDING_273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hing Mach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unt of di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of di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lso include amount of deterg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hing Mach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ial su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y the most widely known application of fuzzy logic / fuzzy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 is due to marketing techno bab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sion Ma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measurements of a specific situation, decide what to 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uch measurements are not clear-c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n appro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rance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fuzzy systems make them applicable to many different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gest application area is fuzz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zzy control applies fuzzy systems to contro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st commercial use of fuzzy log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pplicatio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 recog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zzy databases / information retrie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ised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Fuzzy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hens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simo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ertain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tern Recog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is to classify a pattern based on certain measurements of that patt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ex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big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upte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var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tern Recog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writing recog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is class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writing Recog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ing handwritten charac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 variation between wri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 variation from the same wr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k where character “crosses” specific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writing Recog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41560" y="2046240"/>
            <a:ext cx="731016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ris 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c classificat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is to identify the species of an iris fl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variables are four measurements of the fl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variable is the species of the i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ris 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this a difficult probl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ertain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 variety in the spe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ing things have a wide var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certainty about spe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