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C34-2E74-46FC-8070-2C61C59C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93A-1500-4BD4-A82F-CEE20753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75D-0F67-4CBD-9670-03B342CE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FF7-5A09-4284-BEDF-1D10D5FF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166-4E83-4B8C-B033-CB0E12BB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FCD-99B4-4FFA-BCFA-82A2AC98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395-F22B-4E97-9A42-46DA5AF8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DAE-A410-42F3-9518-21F08C54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D8C-EB01-49E4-8A5F-90FBE6B1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0E6-A9E0-4848-B726-8B498BA5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FDA-DF06-422F-8D3D-E42B89D5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4FC-D192-4A1C-9122-2A49EE46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88AC-AC20-4109-BD68-345F3E141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65400"/>
            <a:ext cx="6578640" cy="30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ssential step of solving any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the problem is, how can you solve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roblem clearly defi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goals of the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roblem suited to a fuzzy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one fuzzy system do, or are several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opti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input and output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available input variables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available output variables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s of th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e of dis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of th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MF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membership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to 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smoothly tends toward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ular has a more constant s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elton useful for binary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ular good for clear, non-overlapping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ezoidal combines triangular and rect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membership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ame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of each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of the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 attached to each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fuzz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roblem in developing fuzz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th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from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from learning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rom expe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developer understand the probl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developer define the rules themsel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developer understand the expert well enough to transcribe accurate r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xpert understand fuzzy log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expert define the rules directl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expert verify the rules created by the develo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rom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lustering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of a class indicate regions to define with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defines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rom Clu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20800" y="1527120"/>
            <a:ext cx="50245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rom learn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neural networks (A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an artificial neur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the connection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se fuzzy rules from those we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Algorithms (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erformance of system to drive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of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rules cover the entire input spa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they don’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"no response" accept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dictions in the 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or split OR'd 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inference / composi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ethods give very differen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oose th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defuzzifica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o choos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ives different crisp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te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erformance of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ing a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syste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si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system give results the experts are happy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fail gracefu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adju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/ delet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 of rules help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ing inference / composition / defuzzific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ing M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/ removi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 of rules helps agai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 gotc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in the MF may require a change in 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in the rules may require a change in the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in the inference process will effect everything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ation is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function approxim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enough rules, a fuzzy system can approximate any function to any degree of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rules required smaller than crisp rule based function approxim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crafted fuzzy rules are easy to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meaningful labels for 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a fuzzy expert system a "white box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orkings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can be added and removed a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s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 small number of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s necessary to improv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redundant rules to improve executio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e individual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jor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membership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inferenc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t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ules f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s how system reached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can fire even if all antecedents don't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eal with inexact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ule corresponds to a wider range of in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execution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calculated once at end of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are evaluated in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for execution selec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crisp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rule execution can alter output of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utations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zz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zzy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 of output fuzzy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uzz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MF can aggravate this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riangular vs.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the rules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blem with rule-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get enough rules to be 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need to be expr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need to be 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in the MF can require a change in 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in the rules can require a change in the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rameter / choice effects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parameter optimis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the problem is the most important step of developing a fuzz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 can help in determining the variables to include in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must be taken in defining the membership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alysis can again help with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st problem with fuzzy systems in defining th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can come from several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rules more expressive than crisp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ewer of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nature of the rules make development eas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rule based systems overcome most of the problems with crisp rule bas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ifficult to optimise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 &lt;-&gt; Rules &lt;-&gt;Inference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type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, Triangular, Singleton, Trapezoi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ype has different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entre, 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effect the output of th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fuzzy facts to fuzzy 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nteced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, OR,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eh-Mamd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agi-Su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inference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sult depend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uzz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fuzzy exper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other expert systems, but knowledge base is a fuzzy logic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44800" y="1709640"/>
            <a:ext cx="60134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Fuzz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input and output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membership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fuzzy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inference / composi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defuzzif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