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339-81C4-4B3A-94C3-A5CCE676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E90-B467-4500-8F35-FCA4CC11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C25-3F19-4232-83A4-129EFF8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2F8-0D60-4EEB-8582-7951BEA2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C56-484A-4EFD-97F7-D3C527D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F35-912E-4447-97D1-A70AEE77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1CB-7EB3-40D9-B900-08B7627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B4C-34BC-411A-B153-B65479CD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974-172F-406B-8AB5-15CF7DD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01F-BAE6-490A-8150-06E5647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701-3AED-4F86-9851-3638F92A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B76-4F73-4D60-ADC6-5C7A4D17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ABA-54B2-4209-8522-A6FC62026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 and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urant tipp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 variabl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 variabl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" y="2070000"/>
            <a:ext cx="31687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e of discourse is 0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62160" y="1892160"/>
            <a:ext cx="6954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7000" y="2138040"/>
            <a:ext cx="37497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e of discourse is 0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91000" y="1901880"/>
            <a:ext cx="64832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57600" y="2069640"/>
            <a:ext cx="3468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e of discourse is 0-2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97160" y="1978200"/>
            <a:ext cx="6848640" cy="50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the tipp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poor or food is ran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ip is c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ip is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excellent or food is delici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ip is gen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s fuzzy conclusions from fuzzy 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s facts against fuzzy antece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s fuzzy sets to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ify the inputs (fuzz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uzzy logical operators across antece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mpl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 is really two different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is the matching of facts to antece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the truth value of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s fuzzy sets to each outpu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ets assigned to different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degree of support for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for assigning (inferring)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utput MF at degree of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33480" y="3255840"/>
            <a:ext cx="4591080" cy="646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3960" y="4226040"/>
            <a:ext cx="69991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utput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ferred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value being fuzz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egree of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82760" y="4775040"/>
            <a:ext cx="307800" cy="33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352520" y="5121360"/>
            <a:ext cx="4255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in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output MF by degree of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78040" y="3295800"/>
            <a:ext cx="315144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p Rules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ets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is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deli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of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perform fuzzy inference with these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57480"/>
            <a:ext cx="87915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, fuzzify the inpu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fuzzif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uzzif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cid 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cious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calculate the degree of support 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poor or food is ran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=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cid = 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0.8, 0.0) =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upport = 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=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0.2) =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upport = 0.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vice is excellent or food is deli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= 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cious 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0.0, 0.6) 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upport 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implic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an inferred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n value for each output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utput MF at thi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at 0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84320" y="2584440"/>
            <a:ext cx="7780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22480" y="1882800"/>
            <a:ext cx="7867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= {(0,0),(1,0.2),(2,0.4),(3,0.6),(4,0.8),(5,0.8),(6,0.8),(7,0.6),(8,0.4),(9,0.2),(10,0), (25,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8680" y="1847880"/>
            <a:ext cx="8791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upport of 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09600" y="2363760"/>
            <a:ext cx="7952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p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antecedents and consequ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 of an antecedent is a logic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 &gt; 0.5, light i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 will be asserted if antecedent i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resentation is Dull) AND (Voice is Monot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Lecture is 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863720"/>
            <a:ext cx="75693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= {(0,0),(1,0.2),(2,0.4),(3,0.4),(4,0.4),(5,0.4),(6,0.4),(7,0.4),(8,0.4),(9,0.2),(10,0), (25,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ings different if we use product inferenc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84360" y="1662120"/>
            <a:ext cx="7318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= {(0,0),(1,0.16),(2,0.32),(3,0.48),(4,0.64),(5,0.8),(6,0.64),(7,0.48),(8,0.16),(9,0.16),(10,0), (25,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8680" y="1812600"/>
            <a:ext cx="87915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upport of 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31840" y="2238480"/>
            <a:ext cx="7713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= {(0,0),(1,0.08),(2,0.16),(3,0.24),(4,0.32),(5,0.4),(6,0.32),(7,0.24),(8,0.16),(9,0.08),(10,0), (25,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s the inferred MF into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thods of doing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takes the max fuzzy value for each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aking the fuzzy values for the highest activated rule for each output fuzz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sums all fuzzy values for each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truth values &g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e normalised to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for defuzz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F attached to th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 an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F has been asserted by two different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rules activated (degrees of support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, 0.4, 0.6, 0.5, 0.7,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 inferenc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p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rule at a time allowed to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ule will either fire or not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roblems with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roblems with representing concepts 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firing of rules also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f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e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200" y="2651040"/>
            <a:ext cx="8951760" cy="1040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200" y="4255920"/>
            <a:ext cx="8951760" cy="1020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8880" y="5851440"/>
            <a:ext cx="9105840" cy="103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9040" y="3735360"/>
            <a:ext cx="8791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et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040" y="5332320"/>
            <a:ext cx="8791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et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max of each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5680" y="3170160"/>
            <a:ext cx="9941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1840" y="1643040"/>
            <a:ext cx="71262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each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9800" y="3208320"/>
            <a:ext cx="94312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7800" y="1959120"/>
            <a:ext cx="7339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s inferred MF into crisp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types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on 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of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Max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8680" y="2152440"/>
            <a:ext cx="87915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of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30560" y="2997360"/>
            <a:ext cx="2959200" cy="1231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9040" y="4529160"/>
            <a:ext cx="879156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risp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items in the fuzz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this to the first composit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2920" y="2679840"/>
            <a:ext cx="9796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55800" y="1911240"/>
            <a:ext cx="373716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4760" y="1757520"/>
            <a:ext cx="72532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sets of crisp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can belong to varying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memb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ets defined two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of ordered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of Max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s the mean of the crisp values that correspond to the maximum fuzzy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one maximum fuzzy value, the corresponding crisp value will be taken from the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this to the first composit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fuzzy value is 0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crisp value is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value returned by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ets with &gt; 1 maxim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is to the third composit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360" y="3381480"/>
            <a:ext cx="99219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fuzzy value if 0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crisp valu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5 and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5280" y="3948120"/>
            <a:ext cx="3248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0000" y="1719360"/>
            <a:ext cx="75596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 match fuzzy antecedents to fuzzy consequ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to which antecedents are true determine the degree of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 functions are used to determin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inference involves calculating an output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inference process produces different inferred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process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-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-pr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on composi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methods described by combining inference &amp; composi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-min (or min-m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-pr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uzzification converts a composed MF to a single crisp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defuzzification methods produce different crisp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ildly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fferent defuzzif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of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Max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functions (M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he degree of membership in a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types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described as sets of 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Crisp,Fuzzy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{(0,1.0),(1,1.0),(2,0.75),(3,0.5),(4,0.25),(5,0.0),(6,0.0),(7,0.0),(8,0.0),(9,0.0),(10,0.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nough pairs, can approximate any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finding the degree of membership of a value in a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ing set of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ave antecedents and consequ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deal with partial tru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s match fuzz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s assign fuzz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 can have weigh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set 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