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3B0-82F8-4A67-A6B4-571F18A4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31D-5D30-4A9C-BA97-6DCBC3A2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E7A-C4F3-4E7C-BC26-775C4970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26F-83DA-4E84-BB91-AF08F890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1E-9002-42F1-AEEC-7D377033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17E-F7A3-49EA-BD68-C59F99B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78B-F58B-43CB-9102-69BD342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647-9C75-481B-85DE-11CC819F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0B4-A821-4496-9B55-9C3FE642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E76-3AAB-4E38-87F9-12F0766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042-A9F4-4B4D-90C0-A285942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DF6-BCDE-407B-BB47-581F81FF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506-7C9D-4F41-A670-B0EFFE667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 and 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to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41480" y="2911320"/>
            <a:ext cx="45817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angular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8640" y="1728720"/>
            <a:ext cx="78944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angular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84600" y="2987640"/>
            <a:ext cx="46972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mily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ly tend towards zero and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n the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-shoul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shoul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53920" y="1805040"/>
            <a:ext cx="7904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ular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74840" y="2757600"/>
            <a:ext cx="5715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mily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ly tend towards one and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n the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68400" y="1776240"/>
            <a:ext cx="808812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40880" y="3436920"/>
            <a:ext cx="879156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entre of the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is the width of the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exponenti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03640" y="1882800"/>
            <a:ext cx="47559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52671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46360" y="2824200"/>
            <a:ext cx="67626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p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ft hand ‘breakpoint’ of the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ight hand ‘breakpoint’ of the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entre of the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668320"/>
            <a:ext cx="8791560" cy="16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symmetrical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38520" y="1968480"/>
            <a:ext cx="298764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ship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 can also be represented by a set of ordered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are crisp-fuzzy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{(0,1.0),(1,1.0),(2,0.75),(3,0.5),(4,0.25),(5,0.0),(6,0.0),(7,0.0),(8,0.0),(9,0.0),(10,0.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{(0,0.0),(1,0.2),(2,0.4),(3,0.6),(4,0.8),(5,1.0),(6,0.8),(7,0.6),(8,0.4),(9,0.2),(10,0.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={(0,0.0),(1,0.0),(2,0.0),(3,0.0),(4,0.0),(5,0.0)(6,0.25),(7,0.5),(8,0.75),(9,1.0),(10,1.0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ship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09600" y="1892160"/>
            <a:ext cx="754848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determining the degree to which a value belongs in a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returned by a fuzzy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ariables in a fuzzy system have multiple MF attached to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ifying that variable involves passing the crisp value through each MF attached to th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operations and function as in crisp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eal with degrees of truth rather than absolute tru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c is a superset of crisp (Boolean)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p 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ue is both parameters ar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rue if either parameter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verses truth of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nction - crisp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82840" y="2805120"/>
            <a:ext cx="3679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nction - fuzzy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minimum of the two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41520" y="3419640"/>
            <a:ext cx="3564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function - crisp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56000" y="2843280"/>
            <a:ext cx="3333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p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is either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ncertainty i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m either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ly within a se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ly not in 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the Excluded Mid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must be either in set A or in set not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ddle ground is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function - fuzzy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maximum of the two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11640" y="3246480"/>
            <a:ext cx="36226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unction - crisp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78280" y="2747880"/>
            <a:ext cx="24890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unction - fuzzy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truth value from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57640" y="3255840"/>
            <a:ext cx="19321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of fuzzy logical functions are the same as cris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lculated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e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ruth, 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of fuzzy rule bas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c deals with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degrees of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partial membership in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membership functions describe degrees of membership in fuzz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types of MF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ification = determining degree of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fuzzy MF to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c extends Boolean operators to handle partial tru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of fuzz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p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7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sets (A and not-A) must between them contain ever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48240" y="3189240"/>
            <a:ext cx="610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can belong to a fuzzy set to different deg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memb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within a set is a membership degree of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outside a set is a membership degree of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membership must sum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m can be both A and not-A to different deg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 to a degree of 0.8, not-A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membership are expressed with 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values a variable can take is called the universe of dis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ship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mbership function describes the degree of membership of a value in a fuzzy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d to as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alue being fuzz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9200" y="3803760"/>
            <a:ext cx="8938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ship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ifferent types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to use depends on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ton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766880"/>
            <a:ext cx="7809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