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A77-CC32-4B82-9C91-D3FE153D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E4A-013E-4A42-8382-D207FF5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6CF-A92B-4CD1-8BCA-8B7E4ADC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79-9786-4C4D-9945-B0963DBC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84E-A341-4937-998E-2E16A72E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3C3-A8A4-4506-8654-1E7D1867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CF5-B0C3-4CF2-82B6-9E4970E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1B1-7BEF-45CE-9104-DF98AC9A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439-C5F4-4C35-9092-C1699E9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A06-CA8E-444B-B742-1C2C93F6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9B0-19F5-4DAB-9E6D-F593A87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1F6-E5BE-4A7B-9328-C160FDBD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172-8154-496E-AF14-49C1A4C41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Base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s are transforma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one string from another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-&gt;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things like compilers, as well as 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6240"/>
            <a:ext cx="879156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duction rule consists of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ft side also know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ce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side also know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equ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6240"/>
            <a:ext cx="87915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ecedent part of the rule describes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must exist for the rule to f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equent describ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acts that will be established, 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tion that will be ta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s) THEN (a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F (antecedents) THEN (consequen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elements can b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gation of a fact (means absence of this fac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logical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NOT (sky_is clou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s with variables or wild cards; a wild card is a variable which can be satisfied by any value; e.g. temperature &gt; 1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Gauge is OK) AND [TEMPERATURE] &gt;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oling system is in the state of overh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Presentation is Dull) AND (Voice is Monot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ecture is b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Gauge is OK) AND [TEMPERATURE] &lt;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oling system is functioning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(Presentation is Dull) AND (Voice is Liv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ecture is Gr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s facts in working memory against antecedents of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bination of facts that satisfies a rule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tching rule is added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flict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ule at a time f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must be selected from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ection strateg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ed by the most recent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prioritised by the number of condition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s rules with fewer instan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rule has fired, cannot fire again fo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number of cycles or perman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priority number attached to each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rule at random from the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of the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dify working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existing 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external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&amp; 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work repeti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fa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in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until no more productions i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System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9840" y="2084400"/>
            <a:ext cx="59659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computational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present any computational process, including a produc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function approxim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pproximate any function given a sufficient number of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o how humans articulate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get rules out of a client /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re easy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ory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learly show how a conclusion wa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crafted rules can cover a wide range of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rules are needed for som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ule is a separate piece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can be easily added or de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ing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al with inexact val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lue is unknown, how to represen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li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ule at a time f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can depend on which rule fire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ucidating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the rules in the first pla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nts to write down 5,000 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rule cover every possi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they don’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ystems are sometimes called exper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the same thing, how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t system may use a production system, but a production system is not always in an expe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information systems for solving a specific problem which provides an expertise similar to those of experts in the problem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contains expert knowl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ES architecture consists of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base modul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(database) module (for the current data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interface (possibly a NLI, menu, GUI, et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nation mod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ion system consist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(facts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le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Base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the domain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to the production rules module of produc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produc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nother model, such as a neural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produc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the functioning of the entir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 mechanism can be forward or backward ch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ion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s the reasoning made by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tions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has inferred a fact or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t has taken the action it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can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k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ine of inference /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 chai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from known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s rules to infer a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a conclusion to be pro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s rules that can establish that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ky i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is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 is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weather is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when the goal is not known by the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ather is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ky cl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emperature wa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wind l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user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ystems are rule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ystems can be universal computational mechanisms and function approxim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Readable, explainab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handle uncertainty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systems solve problems in one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based on PS, or othe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psulate domain knowledge for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acquiring domain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problem is a Production System suit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problem would a Production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suit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Expert Systems differ from Production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ould expert systems be more suitable then production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the facts currently being deal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s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king memory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rules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the set of productions (rules)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memory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mechanism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s facts from working memory with pro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s rules to 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rules assess and manipul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re propositions about the objects dealt with by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presented with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 &lt;object or relation&gt; &lt;attribute_1&gt; &lt;attribute_2&gt;...&lt;attribute_k&gt;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6240"/>
            <a:ext cx="87915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is_a &lt;relationship&gt; &lt;name1&gt;&lt;name2&gt;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emplat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is_a father John Mary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a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4800"/>
            <a:ext cx="87915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&lt;car_par&gt;&lt;parameter&gt;&lt;value&gt;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_par temperature 135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&lt;car_status&gt;&lt;system&gt; functioning &lt;status&gt;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_status breaks functioning slowly ) a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_status cooling functioning overheating) a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r_status gauge functioning OK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&lt;lecture_attribute&gt;&lt;property&gt;&lt;value&gt;) a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sentation is Dull) a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