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EE1-3238-4A43-B9B9-83E6ED1A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02C-3B66-4E6A-AF85-80AEB6A1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2C4-FEBB-488B-B101-F1ACB059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CDF-9EAE-4F37-AF83-72ED1184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2C0-D795-4056-86BB-950E1F46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239-C5DA-45CD-B027-B75F0DB6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87C-520A-483B-848A-E5802872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DE2-F04E-4FB3-80BF-729A9A58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7F7-B1E4-49DB-A0C2-30F13AC9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70C-5955-4283-A83D-4504CACB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BAD-BAFF-407B-994F-2AC7B205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008-4689-45C6-85C7-8FCF9344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69AE-4539-4CA5-BD62-FE61F346F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and Artificial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Neur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percep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propagation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vs. Batch mode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s of back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back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honen Self Organising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 Quant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onen Self Organising Topological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ing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use an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rtion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ANN to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v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volution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arckian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lian gen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ian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of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genetic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che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new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ment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match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250920"/>
            <a:ext cx="879156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Strateg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Programm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cours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Evolutionary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Applicatio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Algorithms and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and AN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Topology Selection by 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Weight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ng Control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Algorithms and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EA to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ation of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ation of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ation of fuzz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S for Speech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Data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Speech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S for Bioinfor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bioinformat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it processed in ce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NA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DNA data represen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S be applied to DNA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S for F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h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to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of I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S for Image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im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rocess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mage Processing/Recogn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/ Computational Intel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52800"/>
            <a:ext cx="879156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operations o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a data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versus non-linear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s for pre-processing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T and FFT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let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Based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&amp; Tem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erenc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produ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of produ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ets and 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p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membership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Rules, Inference and Defuzz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i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uzz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of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recognition /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