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C10-EC22-4121-B163-52DA2A3B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4AE-C96E-4E11-AEF2-CDB037B1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228-D5DC-4258-8553-7FE79B6E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D79-5587-45FB-8709-D1814566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9BD-8290-47BB-B2AE-FB96D230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5CD-E9FF-48D6-B438-B37F5240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361B-D38E-438B-94A1-09B87C42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564-9374-49A6-A116-7B14D88C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60CA-D0B3-4A43-8954-CCC90083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FB9-CA1F-46D3-912A-0D20A04C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9F3-CD59-47BD-A0EF-DC0F0897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6F7-EC2E-47E8-90F6-59D8E2FB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42E4-1ADA-4929-ABF2-6C620BFC5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23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S for Image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el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a con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s have high contr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the gradient between adjacent groups of pix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specific kernel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 fi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of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groups of pix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spikes in int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method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let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wavel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d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value of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velet fades in and fades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t analysis breaks a signal into its component wavel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let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t coefficients can be recombined to form the original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ts have many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fil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ts are used when FFT don'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let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perform local analysis and flexible decomposition of a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haracterise the colour-space and texture of an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been used for the indexing of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for image 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size of equivalent JP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for a computer program to identify certain features of an image throug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class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l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-bas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of Image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t iden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visible damage -&gt; ins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ing sh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ane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 are a complex data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echniques exist for transforming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recognition has many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im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in a visual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 on a computer are displayed as pix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ixel is one col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s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ter vs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ter represents each pix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 represents sh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 files combine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ster Im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is divided into regularly sized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x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ixel is one 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ixels / unit length =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s / pixel = number of colours / pix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2, 4, 8, 16, 24 bit col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colours ea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size is a function of resolution and bits / pix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goals of image analy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hance the image for increased understanding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ob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ob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(possibly) obtain some insight into how human beings process visu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images in some form to elicit information that's implicitly stored within the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 used for imag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 enhan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image processing transformations are non-li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el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 small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is slid over the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s one pixel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in the kernel are used to transform values in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of many image process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