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D57E-D0DE-4858-ADCE-AD13A5887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175A-36E7-4B59-BC73-A62C6B230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3D99-FE79-42C5-8990-349C5B924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854E-9977-4F74-BEAC-AB9577031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B23B-AFC6-4EA4-80D9-6BD0021C5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2840-B21D-4918-966B-8937D6E61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3EF2-AC8A-43AE-9705-BB19DDB73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3AF1-CD19-4FF4-A2F8-FBB9C9AE4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48C5-8C61-4F3D-8E28-D44F37317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3493-9F8B-4FD0-BF1F-2DDDED93E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F811-B874-400A-B50B-150379584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4340-BFA0-45FC-8B60-FDDAA4064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8282F-D0AD-41B9-BB34-BE6A06577A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1320" y="2176560"/>
            <a:ext cx="6578640" cy="33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lligent Systems for Bioinformat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hael J. Wat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mike.watts.net.n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NA Trans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plets of RNA bases (codons) translated to amino acid (residu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enetic c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ino acids linked to form prote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ein folds according to electrostatic for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pe of protein determines it’s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ifferent kinds of DNA data and DNA related data in exist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A promoter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NA splice junct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“genetic cod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ein sequences and configu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resenting Biological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50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ic sequence data string of let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, C, G, T (DN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,C,D,E, etc for Amino Ac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be represented in several w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stitute arbitrary numbers for let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A=1, C=2, G=3, T=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reflect some properties of the b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lems dealing with uncertain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oretical problems (measurement theor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resenting Biological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nary re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thogonal enco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base can be one of four (or 2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resent each base by four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.e. A = 1 0 0 0, C = 0 1 0 0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s uncertainty bet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A or C = 1 1 0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ignores properties of the b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resenting Biological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ron Ion Interaction Potential (EII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sure of the chemical properties of DNA b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rves information about the properties of the b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fic to D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lems with uncertainty re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resenting Biological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ge, hydrophobic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physical properties of amino ac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en tried in the past, but never really successfu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fic to prote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lications of IS to Biological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can be applied to each stage of the protein synthesis pro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ing DNA promoter si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ing RNA splice si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ling the genetic c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dicting protein configu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dentifying DNA Promoter Si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moters are the start of coding regions of D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A coding regions have known termination poi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ically AATAA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N can be trained to classify a region of DNA as promoter or non-promo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NA Splice Site Predi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licing is the second step in removing unused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tes can be either intron - exon (non-coding - coding) 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on - intron (coding - non-cod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LPs and Knowledge based neural networks (KBNN) have both been appli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NA Splice Site Predi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set consists of sequences of 60 nucleoti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sequence represents ei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n - exon j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on - intro j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junction reg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nary representation of bases u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ance exceeds statistical metho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cture 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bioinformatic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DN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is it processed in cell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DNA dat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is DNA data represent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can IS be applied to DNA dat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ling the Genetic Co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bases in each codon (64 combinatio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 natural amino acids plus STOP cod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tic code is degener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a MLP to model the genetic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s with training indicate properties of the genetic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nal representation matches known biochemical group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tein Configuration Predi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eins are formed from chains of amino ac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eins have primary, secondary, tertiary and quaternary struc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ary structure is its amino acid sequ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rostatic forces folds it into secondary, tertiary or even quaternary struc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tein Configuration Predi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structure determines it’s biological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ary structure consists of sub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pha heli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eated (or beta) she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 is co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use ANN to predict the structure from amino acid sequ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ary Structure Predi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led with an ANN in 198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an MLP to predict secondary structure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put was a ‘window’ of 13 resid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dict which SS centre of the window is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ary Structure Predi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residue represented by a 21-bit vec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bit for each residue 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1 for ‘spacer’ b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tal input size of 273 b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output n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ix, sheet, co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ary Structure Predi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quence profi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 a set of known proteins that are similar (homologous) to the unknown prote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ign the homologues with the unknown so that the maximum number of residues mat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he alignment to construct a profile of residue frequen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ary Structure Predi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profile and other measures as inputs to the AN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gives the best prediction results so far (&gt;86% accurac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in the PhD prediction 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-mail based prediction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tein Configuration Predi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tic algorithms used to predict tertiary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tness based on the energy required to maintain each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 aims to minimise ener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ternative is to use brute forc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ve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ime consu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gnal Peptide Cleav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eins that are exported from a cell are “marked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al” molecule at end of prote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ved off before ex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N can be used to predict where the “signal” section e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sm specific, to some ext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gnal Peptide Cleav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diction is based on structure, rather than sequ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istical methods have problems modelling this kind of th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N have shown some prom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work to be d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Bioinformatic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ational analysis of biological sequ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ifferent kinds of biological data ex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ount of data increasing at an exponential r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automated methods of processing 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oinformatics is a very large fie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led with many challen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lots of $$$$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GE amount of data exists and being continuously produc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s with processing it 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lligent systems can be used to do th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DN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xyribo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cleic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rage medium of genetic information in higher organis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capsulated in cell nucleus of eukaryotic (multi-cellular) organis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sts of long chains of nucleoti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hains in double helix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DN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 bas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enine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uanine 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ymine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ytosine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quence of bases encodes genetic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is DNA Processed in Cell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173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tral Dogma of Molecular Genetic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es the flow of information from DNA to prote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292560" y="3516480"/>
            <a:ext cx="3181320" cy="29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 Process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A is transcribed into messenger RNA (mRN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NA is a less stable relative of D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laces Thymine (T) with Uracil (U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NA strand read by ribosome to produce protein (transla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crip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A split into single str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NA polymerase binds to DNA strand at promoter s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NA strand formed from DNA base compl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-&gt; U G -&gt;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 -&gt; G T -&gt;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crip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RNA cut into s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ing (exon) portions of RNA strands spliced toge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-coding (intron) segments discard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