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0363-D585-4034-BE9E-6FE32A6A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E9CF-BDC4-4D07-80F0-F93EF23D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FA56-0DF6-4048-BD13-E2ED91873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04FD-CBC9-4E60-95D4-89BF3702B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6A5C-2AFC-4527-8AE2-8E56B3FB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1357-79AF-44A4-8EA4-A82B6DCC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A01B-A3C2-400C-9476-2E566306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E45A-F76B-466F-B4C3-CED7DA69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BEA9-A66F-4333-B5CC-0010BEB9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E351-5E2A-4CAB-B2AB-3C2841DE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4CC8-97D1-4D46-8831-008D8328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5325-0508-4230-9523-8A8DA946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9270-3161-41E5-9851-8759EB378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1320" y="2176560"/>
            <a:ext cx="6578640" cy="30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atistics and transformation re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J. Wat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mike.watts.net.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form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85960" y="2190600"/>
            <a:ext cx="6675480" cy="42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nalyse Dat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missing data and how mu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missing data a critical obstac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other methods be used to compensate for the gap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nalyse Dat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eatures can be extracted from the da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the number of variables in the data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ssist with modelling th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make correlations / relationships easier to s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stical Data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ver repetitiveness i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stical Data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thmetic m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alue that is representative of the population of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asure of how far from the mean values dev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must be appropriate for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s linear dependencies between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lation coefficients may change in time for time series d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ression an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452124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gression analys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s a formula which approximates data for a given output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ol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s in gaps i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 data into cur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213520" y="2075040"/>
            <a:ext cx="4322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al component analysis (PC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s redundant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number of variables in data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it easier to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component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s components from a set of unknown independent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the cocktail party problem - separating speakers from a signal taken from cocktail party speech - several people speaking simultaneous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uster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s each datum into one and only one subset of the data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-means clus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s k centres in the data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 of squares of distance between each data point and nearest centre is minimi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 between cluster centres is maximi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al operations 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ransfor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ives of a data trans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versus non-linear transform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ormations for pre-processing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FT and FFT Transform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t Transform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ctor Quant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mensional space a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mensional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rves distance between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that are clos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mensional space will be clos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mensional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8680" y="657360"/>
            <a:ext cx="879156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: SOM for vector quantisation of data in Bioinforma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9040" y="2134800"/>
            <a:ext cx="434952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 !! ----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lected subset of genes expressed in 49 tissue samples (two types of Leukaemia - ALL and AM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049720" y="1949400"/>
            <a:ext cx="4775400" cy="43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8680" y="652320"/>
            <a:ext cx="87915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bjectives of a data trans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8680" y="2134800"/>
            <a:ext cx="87915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rate reduction – meaningful features are extracted from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ing the quality of the information – via noise suppression or image enhan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discovery and better understanding of the processes and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ing similarities and analogies between processes and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8680" y="652320"/>
            <a:ext cx="87915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versus non-linear transfor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transform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raw data vect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linear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E.g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(x)=2x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linear transform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raw data vect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non-linear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E.g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(x)=1(1+e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-x.c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on-linear transfor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garithmic function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(x)=lo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8680" y="652320"/>
            <a:ext cx="87915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s for pre-processing of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8680" y="2135160"/>
            <a:ext cx="8791560" cy="48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of selecting a subset of the available data. Can be applied to continuous time series data such as speech and mus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ing continuous-valued data with the use of sub-intervals where the real values l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is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the scale of the real data into a predefined scale e.g. [0,1]. Can be linear or non-lin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FT and FFT Transfor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74280" y="1811160"/>
            <a:ext cx="8791560" cy="53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e Fourier Transforms (DF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on-linear transformation where the data is represented as a sum of harmonic Fourier s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riodic signal (e.g sin) is characterised by one frequency. Every signal can be represented as a sum of periodic signals with different frequen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60680" y="3755880"/>
            <a:ext cx="693396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FT and FFT Transfor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40880" y="1838160"/>
            <a:ext cx="879156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Fourier Transform (FF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st implementation of a DFT when the number of periodic signals is a power of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s of FFT Trans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ch and Image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nspot activity analy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60680" y="3803760"/>
            <a:ext cx="692460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FT and FFT Transfor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Fourier Transform (FFT) of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41360" y="3112920"/>
            <a:ext cx="8691480" cy="3672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77800" y="5465880"/>
            <a:ext cx="3468600" cy="10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llows us to analyse the information content of the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81520" y="3152880"/>
            <a:ext cx="4348080" cy="10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FT operator transforms the image from the spatial to the 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velet Transfor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let Trans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on-linear transformation. Can represent sight changes of the signal within the chosen window from the time sca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a,b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x) = f(ax –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non-linear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caling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hifting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10360" y="3803760"/>
            <a:ext cx="454320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nalysis is an integral part of the problem solv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suggest means of solving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s in the modell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al techniques, clustering techniques, vector quantisation are all available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nalyse Dat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part of problem solv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uggest method to use to solv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 many important questions about the data set and th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s understanding of th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transforms available to apply to datasets, some more appropriate than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and non-linear transformations are simple but effective op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T, FFT, and Wavelet transforms are powerful ways of analysing sign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nalyse Dat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statistical parameters of the da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, standard deviation, cor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ture of the proce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ic, chaotic, rand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andom process cannot be predicted at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ic processes are more easily mode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otic processes are a bit harder to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eriodic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5320" y="2122560"/>
            <a:ext cx="6666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haotic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85960" y="2046240"/>
            <a:ext cx="66848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Random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5320" y="2160720"/>
            <a:ext cx="666612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nalyse Data?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the available data distribu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it naturally cluster togeth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uniformly distribu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it cover enough of the problem space to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uste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85960" y="2151000"/>
            <a:ext cx="6675480" cy="42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