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750-1FD6-4CA4-8EB7-D1DAF59C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907-0057-482B-A18F-0375F658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1B6-95CF-4EB2-A4CD-5C3F59D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7C6-60E3-4056-BA2F-E263E9BF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02E-088B-4628-90B7-97D8031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024-5930-48A1-AB8B-CE041623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D9D-DCE9-4F18-B870-E3284BBB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D5B-05C1-498A-8CDA-5B4176B2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0FB-32F3-4210-9F6B-D67928A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1A2-75B4-4463-85A7-E6B11D6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D53-9A42-4AEE-96F9-190B37D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A55-C1F5-4278-9406-D6B578E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96BE-311E-4854-92FE-FD0C142ED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 for Speech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Data 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nd wave is a continuous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capture (sampling) is dis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a sample is taken is the sampl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kHz = 44,000 samples /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samples (higher sample rate) the better the quality of the rec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Data 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 is the number of bits used to “describe” each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ample resolution means a greater number of sounds can be re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Ds are 16-bit, 44.1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methods of visu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of signal amplitude agains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-frequency-tim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8600" y="1987560"/>
            <a:ext cx="92296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9800" y="1757520"/>
            <a:ext cx="92203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signal has a lot of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recognise speech from the raw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duce the signal some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ransforms ar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sed on 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ransform is the mel-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l-scale is a lo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human per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the signal into frequency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the log-energy for each frequency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 or de-noising of a speech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 are good at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speaking at any one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language is being sp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eneral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ses words without pauses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se individual words, but uses surrounding words for increased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ses single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can be word or phoneme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based systems are easier to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restricted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a recogniser for each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words 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used, how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Data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Speech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based system require fewer recogni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40 phonemes in most English ac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means of assembling the phonemes into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er than it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can be trained for both word and phoneme based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odels used are MLP, SOM and recurren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lithic vs. Multi-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vs. 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based speech recognition with M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LP for each phon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the MLP to activate for the target phoneme and reject all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mbine the outputs in a meaningful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4120" y="1612800"/>
            <a:ext cx="5821200" cy="438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00000" y="5996160"/>
            <a:ext cx="3081240" cy="2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Kasabov, 1996, pg3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base speech recognition with 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a SOM on the phon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mes will cluster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that is active identifies the current phon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earliest applications of S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based systems work in a similar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ates the need for assembling phonemes into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words restricts the applicatio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ystems can also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 assemble the phoneme streams into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processing is a complex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variability in speec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application is 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ypes of speech recogni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systems can be useful for thi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is a sound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air passing over the organ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s modified by the tongue, teeth and l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62040" y="6827760"/>
            <a:ext cx="9104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manitoba.ca/faculties/arts/linguistics/russell/138/sec1/anatomy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1560" y="2046240"/>
            <a:ext cx="72324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Se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vels of speech that linguists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strict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Se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tence consists of one or more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use has at least a predicate, a subject and expresses a pro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 expresses something about th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is the part of the clause that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Se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rase is more than one word, but less than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rgan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d is a part of a ph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possible meaningfu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one or more phon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50,000+ words in the English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Se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oneme is the smallest unique segment in a spoke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4 phonemes in standard New Zealand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(English) English has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oneme consists of one or more ph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 Data Cap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microph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, Du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ising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