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562-1F82-40F1-881C-481EA7E8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1BB-AD66-4ACD-B8D2-98A1826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3FF-58F1-497E-8C65-71D570BA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E91-D9E6-4309-A67A-FCAA5343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77C-95E5-4ACD-8DA5-36DF743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7EC-E28F-4279-A0D8-0DBCA33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387-AE62-4626-B6DD-47AC0E6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07A-52ED-4798-9750-99145FD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943-EB02-4BB8-94FC-7690153D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933-E0A8-4702-A36F-9AA9063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787-F5A2-4D38-8414-1C7A08A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AB4-62BB-49C5-ADA6-A4D2C22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466-7F47-4DAC-B9DA-A54800E6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, neural networks &amp;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i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ing MF without optimi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the optimal number of rules before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 this if the MF aren’t optimi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selects which MF is active for each input and output 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vary number of antece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entries for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i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arameters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F optim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too m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 both MF and rules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ates problems with interdependency of MF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hod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ule for each combination of input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ev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of input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MF to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ing a rul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oblems with fixed number of rules /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messy 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 the number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ll retain only the necessar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will be minimal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encoding consists of a list of MF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number of hidde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are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number of hidden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are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umber of connections approaches the number of training examples, generalisation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 of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initialisation can cause problems with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in a bad sp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and AN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spects of using ANNs can be approached by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hidde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odes in hidde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and AN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eight values for backpropagation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base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EA to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EA to neur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opology Selection by 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na, 1993. Treats each chromosome as a 2D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ell of the matrix indicates the presence or absence of a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opology Selection by 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Joost and Werner, 19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determines number of node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dicate connectivity of th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sation of the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Weigh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f backprop influenced by initial weights of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ew, McInerney and Schraudolph, 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GA to select the initial values of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determined by how quickly the network trains and how well it solves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Control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 and Bluff,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GA to select for an M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hidden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po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Control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ts, Major and Tate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GA to select for an M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o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used to select values of connection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determined as the inverse of the error over the train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will seek to minimis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weights of network encoded into an individual in the initial EA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ut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has proven to be useful for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ndi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 not commonly used to train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o de Garis’ fully self connect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uron in the network is connected to every other neuron, as well as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be trained by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lgorithms can also be e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using an existing learning rule, the EA evolv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are capable of optimising several aspects of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to use an EA to evolve the entir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 of components ignores problems with interdependencies between thes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problems associated with ANN can be addressed with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selection, parameter selection and training are the most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8680" y="2130480"/>
            <a:ext cx="879156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Arena, R. Caponetto L. Fortuna and M.G. Xibilia. M.L.P. Optimal Topology via Genetic Algorithms. I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Neural Nets and 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g670-6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hoi and K. Bluff . Genetic Optimisation of Control Parameters of a Neural Network, I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edings of ANNES'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g174-177,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K. Belew, J. McInerney and N.N. Schraudolph. Evolving Networks: Using the Genetic Algorithm with Connectionist Learning. I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Life I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511-5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 Schiffmann M. Joost and R.Werner Application of Genetic Algorithms to the Construction of Topologies for Multilayer Perceptrons. I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Neural Nets and Genetic Algorith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g 675-6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the rules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 with rule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get enough rules to b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need to be expr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need to b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n’t use too man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MF can require a change in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rules can require a change in the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ameter / choice effects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arameter optimis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EA to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problems with fuzzy systems are combinatorial in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 / rule inter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are well suited to solving combinator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EA to Fuzzy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main ways in which evolutionary algorithms have been applied to 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the entir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MF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ixed number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selects e.g. centre and width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 of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ation of existing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 deltas for the centres / widths of the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number of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arameters determin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