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F26-0384-40FE-AEE9-06DB98F2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965-DF1A-4488-A4E3-A338BB12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948-D75B-4435-AB54-A59B4BC5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121-24B1-45B8-A14F-CA36957D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943-9C51-4F54-A3C2-87FD311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9CD-2A8A-4B17-829B-5455C2AC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767-9D9B-4C4B-885A-901180C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108-E1D5-4656-A13C-4715963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69B-00C1-44C7-B8D9-4647DAE4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10E-C9E6-4F53-80FB-B47EB87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436-80C0-42E7-AF88-1234B4D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865-1FA5-494A-89F5-3E5401D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5155-3BB7-416C-8150-24F97F256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0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volutionar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imetable s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udents enrolled in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large number of variables, an EA can be the most efficient way of finding 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examines possibl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s each solution accord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ooms in use at on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pace is w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it satisfies other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xample of a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y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umber of different speed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umber of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se number of machine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se time taken for each machine to complete each ta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each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scores each candidate solution accordin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achines in use at ea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time each machine is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ity of the factory as a 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perator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xample of designing the floor of a train c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se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falling through floor onto rails is A Bad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se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weight of structure = more freight = mo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A to evolve the layout of floor beams and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scor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weight of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 placing components on a circuit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mini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circui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waste space on circui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represents position of each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tempt scored accord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board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cru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 must be crushed into pieces of uniform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used by crusher must be minim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ore flowing through the crusher must be maxim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usually attempted intu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n evolution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ed shapes and relative angles of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sim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based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and uniformity of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Applicatio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inimis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Travelling Salesma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Hamiltonia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ities, what is the shortest route to each city, visiting each city exactly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minimise total distance trave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must obey the “Visit Once”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represents the order of cities to vi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scored by total distance trave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can solve many complex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successfully appli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s use of resources / minimise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s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d to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se material use / maximise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 capacity / minimise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se distance / diffi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investigation of large search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investigates a problem with a large number of possib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to many differ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uited to difficult combinator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requirements for applying an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(objective)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function must be determi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ndividual should have same fitness ea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schema must be capabl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decoded / transformed into a proble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reproduction operations performed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 should not be used when an efficient method of solving the problem already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Applica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time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load placed on different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e structural strength /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place compon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 cru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Applica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hortest / easies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for example the scheduling of lectures in 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ass is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t is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take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maxi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eople in a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ooms in use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mini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provide sufficient space between labs for staff to clean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