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DBFE-4C74-4B57-8E44-FF500CAB5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6421-2AA3-4EA0-8BE8-B4EE480F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3276-11EE-42FA-A523-824EB057D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9B7A-399D-4CEC-87F0-768E6F50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EC5C-B5B6-4DD5-A8B6-E1A3BA20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064E-51A1-4762-92D8-6F5AAEB6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C152-B656-40B9-8FE1-5B4FFF24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A706-3AC8-4976-997F-3F77CD7A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9F71-8DDC-43FF-8516-1DF7D476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E228-AA51-4078-8D09-D92B6CE7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FEB8-0BDA-43C0-924D-35909BCB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D46F-D639-456C-9102-A725E911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D93D-93E4-46CA-AF32-1EB2E9C9E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1320" y="2176560"/>
            <a:ext cx="6578640" cy="39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 Strategies Evolutionary Programm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J. Wat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mike.watts.net.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+1 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Evaluated fitness of pare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, f(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reate chil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adding small normally distributed values to each parameter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valuate the fitnes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, f(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(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(P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Repeat Steps 2-4 until stopping con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r ES have pop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+l) and (m,l) 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(mu) is the size of the parent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 (lambda) is the size of the offspring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spring are created using recombination as well as m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(m+l) ES, the m best survive to the next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(m,l) ES, only child individuals survive to the next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ary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ed early 1960s in the 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by Lawrence Fog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arded artificial intelligence as the ability to predict a symbol based on previous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ved a population of finite state automata to perform this pred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ary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consisted of adding, modifying or deleting state trans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was to predict characters from streams of charac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A with the least number of errors were allowed to reprodu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ary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Create a population of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valuate each solution in the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Select individuals to reprodu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ournament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Mutate the reproduction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Repeat 2 - 4 until stopping condition is reac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ary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oduction in EP is via m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tion may be normally distribu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rescribed method of re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whatever works for th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SA, ANN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over / recombination is not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 and 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differences between EP and 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 requires the solution attempt to be encoded in a string of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 uses whatever representation fits the probl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 and 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tion in EP is a normally distributed perturb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infrequent large changes, frequent small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tion rate decays as run time elap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 mutation tends to be fixed size changes that create entirely new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 and 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 and ES are very simi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differences are selection and recomb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on in EP is stocha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rnament 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ly selected particip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ary Algorithms 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 Algorithms 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ary Program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 Program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 and 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on in ES is determini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individuals are pur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individuals br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andomness invol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combination is used in 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 individual ES will use recomb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by John Ko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n EA to create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re attempts based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ll the problem is sol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efficiently it solves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chanistically similar to 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major dif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genotype / phenotype disti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utionary operations carried out directly on the candidate programs themsel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oduction is via crossover and m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8680" y="2138040"/>
            <a:ext cx="879156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didates are represented as parse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9800" y="2679840"/>
            <a:ext cx="2085840" cy="2241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952640" y="5051520"/>
            <a:ext cx="5694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ed from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http://www.genetic-programming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over is implemented by swapping branches of th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tion involves deleting and re-growing bran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, EP and GP are all different kinds of evolutionary comp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eveloped separately, but have common t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undaries between each are not clear-cu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have their own ni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ary Computation: Towards a New Philosophy of Machine Intelligence” by David B. Fog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 Programming” by John Ko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ary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purpose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some aspects of biological 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solving multi-parameter optimisation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random search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A 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populations of artificial 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attempts are encoded as value strings in the 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dividuals created by two mech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over (recombin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on based on fitness of 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chastic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ed early 1960s in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go Rechenberg, Hans-Paul Schwefel and Peter Bien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ering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ing with wind tunn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sing jointed flat 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intuitive methods to do this at th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henberg had the idea of ‘mutating’ the parameters and selecting good mu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are used for numerical parameter optim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ters of a problem are encoded as real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-numbered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ness of individual is determined by how well the parameters solve th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spring are created by m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-numbered, normally distributed creep m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spring replace parents only if more f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named according to number of parents and children at each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+1 ES has one parent and one 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