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3B1-4417-473C-8BC6-2B491213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0E6-F809-4CEF-9FC6-23B59179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AC5-3497-4647-9F9D-13BF2760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CAA-26CC-4D06-9C7D-77804DBE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2BE-DB48-4C01-80EC-511EA72D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64D-C9C0-45D8-BC26-661445BD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3AD-018E-4568-A5B6-05F712F7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35E-4206-49F2-A1FF-2CFD4D7F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F80D-A43C-4D74-8519-E1A0B55B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DA9-7179-43A4-A4DA-27A01712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00F-0944-4A47-8538-940AABC1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47F-5786-4E04-91AE-02CEC138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CAEE-66F3-427D-9E3E-F633D8DDF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ally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blems require many days or weeks to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still faster than brute force, how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ind, undirected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direct a GA towards optimal solution area if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sensitive to initial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such as mutation can significantly influence the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hastic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guaranteed to find an optimal solution, just highly likel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Gene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4800"/>
            <a:ext cx="87915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elect an encoding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andomly initialise chromosome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valuate each individual in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lect fit individuals to breed new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reate new population from pa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Replace old population with new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Repeat steps 3 - 6 for each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oding Sche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mpeting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building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should select a coding so that short, low order schemata are relevant to the underlying probl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alphab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should select the smallest alphabet that permits a natural expression of the probl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tness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dependent up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quantifying performance of the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tness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ation or scaling of fitness values required to prevent good solution overwhelming later gen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“premature convergenc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the ‘local minima’ problem with neural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selecting the parents of the nex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hods in 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ased upon the fitness of the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lette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dividual is given a slice of a virtual roulette wh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each slice is proportional to fi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 the wheel once to select each 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lette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31880" y="2603520"/>
            <a:ext cx="66852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lette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22360" y="2112840"/>
            <a:ext cx="550548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r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of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genetic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ing sche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New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new individuals from selected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erators come into 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over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hromosomes join at one or more points and exchange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rossover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s join at only one l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74640" y="3267000"/>
            <a:ext cx="62233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8680" y="2157480"/>
            <a:ext cx="87915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s join at two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74600" y="3295800"/>
            <a:ext cx="72424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over at each locus determined by a “coin to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00240" y="3267000"/>
            <a:ext cx="77407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r more allele is randomly chosen and it’s value 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of change depends upon coding schema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rate of mutation subject of much current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ispute it’s neces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mutation dependent upon size of alphab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r the cardinality of the alphabet, the lower the benefit of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ment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some or all of the parent population with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replacement strategie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ncerned with preserving ‘good’ genes and purging ‘bad’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Match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s to ‘guess’ a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solve with a brute forc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case sensitivity, to investigate every possible combination of letters in a seven letter word would require 1,028,071,702,528 attem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Match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rying to guess the word ‘genetic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fitness based on number of correct letters in the correct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one: select an encoding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new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ment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match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Match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8680" y="2157120"/>
            <a:ext cx="8791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two: initialise the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kdji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indd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mugjy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zezezez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hjkly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wojik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klado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flort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Match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three: evaluate the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51200" y="2987640"/>
            <a:ext cx="3516120" cy="2768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74960" y="6218280"/>
            <a:ext cx="3619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fitness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Match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8680" y="2138040"/>
            <a:ext cx="879156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four: select breeding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based on fitness, so breeding populati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97120" y="3333600"/>
            <a:ext cx="351648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Match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five: create new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over comes into 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utation used here to keep thing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cross individual 2 with individual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2 genotype is: gindd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4 genotype is: zezez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ing over produces : gened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Match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opulation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19160" y="3073320"/>
            <a:ext cx="5695920" cy="2616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27200" y="6480000"/>
            <a:ext cx="4233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fitness = 2.3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algorithms are a class of evolutionary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efficiently investigate large search 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wo maj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evolves by creating more offspring from fitter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ness based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spring created using crossover and mutation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mindful of the dis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algorithms are search algorithms based on the mechanics of natural selection and natural genetics” Goldberg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nd of evolutionary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GA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 - a position on a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- a portion of a chromosome representing a parameter of the solution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 - different values of a particular gene. Members of the domain of the gene’s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 - string of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type - coding of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type - expression of the gen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- group of individuals capable of interbr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means of investigating large combinatori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olve combinatorial problems many orders of magnitude faster than exhaustive ‘brute force’ sear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are not ‘silver bullets’ for solving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able to assess the quality of each attempt at a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crack PGP with a 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