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35D-5705-4785-B9F0-EDF22EA7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E10-F2E5-41F3-BAA0-0F90BE57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2B0-18F6-49EC-B3E8-13AA7EA8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2243-E9B1-4CE0-A8A5-509BD0D3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935-BB11-4896-83C9-7DDB84FC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9BB-8D71-4E1B-949D-D86B7B1C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0A8-969A-4F63-9B66-DA2BA58C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32B-E6D7-4FBC-9DDB-8F29C05C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3EB3-2D8B-4D26-BA74-2BA3C69C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671-564A-406F-8EE6-0CFE1F4E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0275-9ACD-4ED6-A6DE-6CD691A1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EE9-635F-431F-BD01-8B635728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B355-E93C-43FB-BF5A-47FDCB56E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76560"/>
            <a:ext cx="6578640" cy="23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ian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sms possess qualities that better suit them to their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qualities are gen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qualities arise through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uitable for environment = more 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it organisms have more off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ous genes increase in frequency over gen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ian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ian Evolution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rvival of the fit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oes not say that the strong shall live and the weak shall d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this does happen, it’s not the point of the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ttest are more likely to have more offsp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ian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of alleles by n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ness is not just suitability to th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reproductive fitnes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utation is of no use if it renders the organism unable to repro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ian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mutations are harm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get passed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ll the org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utations aren’t ex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ssive mu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specific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ed when environment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pepper m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ian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vironmental condition that favours the selection of one trait over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genes (alleles) will change in response to selective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sickle-cell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ian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 of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s on geographic isolation of pop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er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ime, the populations will div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apagos fin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ian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e of a new species does not require the extinction of the parent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quires separation between the pop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isolation ends, one species may die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 vs. Cro Magn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ian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is never 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vironment is never 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one species can affect change in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ator - prey 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umulation in a population of heritable changes that allow a species to adapt to its enviro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mulation of changes is driven by selective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 of evolution provides a means of creating adaptive intelligen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ary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ver ev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v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volution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arckian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lian gene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ian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over Ev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fundamental theory in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same reason we studied biological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ary computation is very heavily based on biological evolutionary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eople do not understand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Ev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is the change in a population over time through the inheritance of random alt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ge in frequency of alleles within the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ange in a population in response to an environmental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Evolution is N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andom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happens to individ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st for perf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marckian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Baptiste Lamar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th / 19th century French biolog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theory of evolution though inheritance of acquired advantageous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stretching necks &amp; giraff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marckian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ous changes would likely be fa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not be experimentally 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echanism known at the time for passing on the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useful for us, th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ficial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dellian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gor Men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th century Austrian mo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ed with pea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d that traits are passed on via discrete units of 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dellian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ly self and cross-fertilised pea plants possessing different 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 quantitative analysis proved that the frequency of the traits in the offspring determined solely by the frequency of traits in the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