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05E-9C96-4F37-997E-BC4B8FD7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F88-D5CA-4B82-854A-54A15C00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891-8872-4110-ADE5-0C62C0E7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F0C-4DA4-4840-897D-3B39E02B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0B1-6637-4540-A875-0A6063CD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0FD-6C81-4E3C-9FC2-4DC5824F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3D6-84D6-4A52-8B0F-0453B81E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035-DFE0-4ABF-89B4-B8DB830A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DA0-2E4C-4967-99F8-928E9666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DE7-6369-48EE-AA99-AC2FF363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03B-9DD5-41D7-8F3E-4FC820E6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BE0-16E3-4203-9BC9-5A23A922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BFD1-8683-4E23-AE54-DE4A7011B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ing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rtion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ting up the available data into multipl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thre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et has a different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rtion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data set is used to train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of the thre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50-75%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represent a wide range of output classes /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n’t omit any targe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rtion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data set is used to evaluate the performance of the trained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has not been trained on test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over testing set is an indicator of generalisation ability of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rtion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of the total data if no validation set it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half of the remain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also represent an adequate range of output classes /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rtion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data set is used as a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over this set is evaluated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s against optimising the network to the training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rtion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over-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set consists of all remain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before, must have a wide range of output classes /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rtion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just split a data set into three to form training, testing and validation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parameters of each set should be sim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target classes / values should be sim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have all of class A in the training set and all of class B in the testing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Kind of ANN to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rons are useful for linearly separabl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P handle problems perceptrons can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nearly sepa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use supervise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known outputs for each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Kind of ANN to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onen SOMs are good for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handle function approximation very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utput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clusters i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maximise generalisa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over-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training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generalisation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actice is to train until a low training error, then evaluate generalisation on test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use an 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rtion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ANN to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optimising on test set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network is optimised for performance on the testing set, then the network is only good for that data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validation data set is intended to counter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hidden neurons must be selected for ML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euristics exist for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re not rel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void over-training, number of connections should be less than the number of training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tself a heuristic,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8680" y="2157120"/>
            <a:ext cx="8791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of parameters for backpropagation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determined by trial and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epo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 gener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istics exist for each of these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and error is the only reliabl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must be taken in assessing gener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of validation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ANN is something of a “black ar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oblem is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preparation of data is cri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and error is often the only way to find an optimal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o use an 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ules of the problem aren’t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re is an underlying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 can’t model random process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learn from exist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preparation of the data is essenti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 numerical representation of 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ware when encoding discrete ite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l vs. ord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coding should be -1,1 not 0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plane geometry &amp; small initial we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ublished application papers ignore this, how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essenti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variables complicate the learn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se of dimens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ore training examples than 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/ transform out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57120"/>
            <a:ext cx="8791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trictly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oid, tanh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either -1,1 or 0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mean 0 STD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MLP simulator normalises inputs auto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kinds of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approximation / time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has binary 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approximation has continuous 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ays of encoding multiple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utput pe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se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1 0 0, 0 1 0, 0 0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1 0, 0 1, 0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eople use 0.1 &amp; 0.9 instead of 0 &amp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peed up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of sigmoid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gimm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interpret outputs as prob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training algorithm should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