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BCF-9A99-4E5C-83B3-81542207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E47-57FB-4685-B12E-91D66FC8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386-7840-44DD-863D-4FF31F48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CBE-82B6-4CFE-8996-A7D126E9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AF4-173F-4CA9-8FD7-D4378A66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9CF-4194-427C-8FC5-6CE3945D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3EE-B57E-414C-8910-A2F62039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903-7AC5-4ECD-AF0C-45990DA2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F80-92C3-47BE-9B62-A080ECBB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E97-9F17-4454-A973-75C3F5DE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312-53F9-45F5-A207-A8A2D2AC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8F0-2290-48D1-88CC-9DC9CF72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32E-FF1E-4C54-A7FA-F662EB50C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65400"/>
            <a:ext cx="657864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honen Self Organising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are competitiv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s in the network compete with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kinds of competitive network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terested in finding the winning neuron in the output map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nning neuron is that neuron which is closest to the current input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utput neuron is connected to each neuron in the inpu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each output neuron has an incoming connection weight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ality of this vector is the same as the dimensionality of the input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dimensionality of these vectors is the same, we can measure the Euclidean distance between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istance between the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le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nput 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le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weight vector of neur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1560" y="3602160"/>
            <a:ext cx="2315880" cy="608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03440" y="5092560"/>
            <a:ext cx="336600" cy="40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603440" y="5630760"/>
            <a:ext cx="317520" cy="3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03440" y="6081840"/>
            <a:ext cx="395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ing node is that with the least dist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the lowest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from a SOM are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de is either the winner, or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node can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rewarding the winning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form of competitiv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s weights are adjusted to be closer to the input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equ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he output map to learn regions, not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 weight update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weigh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arn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93720" y="4697280"/>
            <a:ext cx="971640" cy="54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93720" y="5313240"/>
            <a:ext cx="528840" cy="39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36800" y="3084480"/>
            <a:ext cx="63576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concept in SOM training is that of the “Neighbourhoo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put map neurons that adjoin the 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urhood size describes how far out from the winner the neighbours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urs weights are also mod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ighbour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48040" y="1825560"/>
            <a:ext cx="46195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neighbours is effected by the shape of th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ular g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gonal g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urhood size and learning rate is reduced gradually during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 Quant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onen Self Organising Topological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effect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, or “clusters” form in output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represent spatially nearby regions in input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dimensionality of the output map is less than the dimensionality of the input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ctor quantis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been suggested that the total number of training cycles should be greater than 500 times the number of output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ining cycle is one presentation of one train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led training data set fed through the trained S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s winner for each train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s label(s) for that example to that neu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set of co-ordinate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ordinates identify output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8640" y="2103480"/>
            <a:ext cx="8451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Re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s winner for each recall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ordinates of winner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up map label using recall co-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a list of labels for each recall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 identify the class each recall example belong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onen SOMs are competitiv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learn via an unsupervised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 training is based on forming clu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perform vector quant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Quan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mensional space 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mensional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es similarity between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that are clos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mensional space will be clos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mensional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vised vs Unsupervised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s taught by a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outputs play a strong role during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annot be trained without known out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vised vs Unsupervised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without a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sired outputs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earns patterns in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2320"/>
            <a:ext cx="87915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honen Self Organising Topological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d to as Kohonen SOMs or just S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by Teuvo Kohonen around 19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ed by neuro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of the cortex specia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items are stored nearby in biological br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layers of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map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utput neuron is connected to each input neu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connect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map usually has two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nd three dimensions also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s in output map can be laid out in different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33760" y="1785960"/>
            <a:ext cx="30924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