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AB7-EFCF-443C-B05F-5C240A17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954-1482-4952-AD6B-5D8C98AB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D5A-5B40-48B3-8A3D-1F8CB9AF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1D1-120E-4B4F-9678-054DE176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0A0-B772-4A5A-A048-47D239E7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E8E-DCD3-486A-BC1F-497A6209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AE4-B944-4134-80AA-FF200816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0EC-7935-4E58-967B-AFC7EE0C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9E8-42FC-45D3-8DAA-3476243C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EA8-4E6C-4922-9A98-189AB69F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D7F-7E52-4906-8BD6-5813A3C6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CB8-E45B-4C37-8657-EA39BE72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AD23-02CE-498F-B857-DBAAA4D21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Squared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over entire dat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3440" y="3803760"/>
            <a:ext cx="45910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d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over individual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errors over multiple outputs to a singl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2800" y="3803760"/>
            <a:ext cx="4341960" cy="11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of network error against weight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network as a function that returns an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nnection weight is one parameter of this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points in surface are local mi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st is the global minim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97040" y="1469880"/>
            <a:ext cx="8354880" cy="59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ny ti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network is at one point on the error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across surface from ti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 is because of BP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moves “downhill” to points of lower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 rule is like gra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rate is like a multiplier on gra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s how fast the network will move downh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can get stuck in a d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ck in a local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local error, but not lowest global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low learning rate = slow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high = high chance of getting s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um is like the momentum of a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in motion, it will keep m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sudden changes in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um can carry the network out of a local min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nough momentum = less chance of escaping a local min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uch momentum means network can fly out of global min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 vs Batch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and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line and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mode applies weight deltas after each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ch accumulates deltas and applies them all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propagation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vs. Batch mode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s of back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back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 vs Batch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ch mode is closer to true gradient des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maller learn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ize is sma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traversal of the error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many epo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 vs Batch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mode is easier to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huffling of training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imple gradient des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not take a direct downward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a small step size (learning rate) to avoid getting s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s on Backpr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and activation functions must be different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hreshold functions canno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tep (Heaviside)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model discontinuous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ed activation functions canno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Backpr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onsu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dreds or thousands of epochs may b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s of BP address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p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of parameters is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ochs, learning rate and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Backpr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mi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asily get stuck in a locally minimal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fi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verlearn the train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e the ability to general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the MLP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paramet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prop is a supervised learn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ient descent reduction of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surface is a multidimensional surface that describes the performance of the network in relation to the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8680" y="2157120"/>
            <a:ext cx="8791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rsal of the error surface is influenced by the learning rate and momentum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vs. Batch mode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is when deltas are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prop has som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in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f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propagation of error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backprop or B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pervised learn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 of network are compared to desired 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calcu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propagated backwards over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used to calculate weight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1400" y="2430360"/>
            <a:ext cx="78566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89120" y="1911240"/>
            <a:ext cx="686736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39320" y="3196800"/>
            <a:ext cx="8791560" cy="26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a is the weight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 is the learn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is the momentum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8680" y="2373480"/>
            <a:ext cx="62247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90280" y="3576240"/>
            <a:ext cx="879156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change to the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rtial derivative of the err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 to the weigh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8640" y="2295360"/>
            <a:ext cx="4552920" cy="107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58680" y="4016520"/>
            <a:ext cx="1068480" cy="606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3600" y="4467240"/>
            <a:ext cx="19130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fferent error measure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over examples or complete training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Squared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d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