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C56-A2A2-4653-83DB-DBCF9905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D04-05C3-4717-9E37-8F7D58C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FB-38D1-4694-AAB7-FD7117C3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742-3748-4B13-9A52-1B730150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27F-75AE-47F6-A7A7-99713A0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03E-76C3-4E4A-836D-AE3054E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88A-9761-4E13-9A79-D646FC6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419-2E86-4B27-A48A-5BD17C2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4D8-6252-40A2-8586-C1485B65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48F-A608-43C3-815E-0F2B9E8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80A-C712-4470-A381-B90C756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FDA-89AA-4232-95B9-A3EFC9D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9FE5-96DD-4892-BC3B-86104BBC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76560"/>
            <a:ext cx="65786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model non-linearly separabl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idden neuron is equivalent to a perceptr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idden neuron adds a hyperplane to the problem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ufficient neurons to partition the input space appropr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e MLP according to the number of connectio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define MLP according to the number of neuro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on’t count the input neur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perform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fer to the number of hidden neurons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to specify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three neuron layer MLP”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nnection layer MLP”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euron layer, one hidden layer ML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LP with one hidden layer of sufficient size can approximate any continuous function to any desired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mogorov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 can learn conditional prob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 are multivariate non-linear regress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of training a M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ropagation is the most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function approxim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generalise to new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ccurately identify / model previously unseen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M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number of hidde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are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fficient, according to the Kolmogorov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ill always be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M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number of hidden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are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, the number of connections in the network should be less than the number of train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umber of connections approaches the number of training examples, generalisation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M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strophic for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when a trained network is further trained on new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forgets what it learned about the ol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knows about the new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M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 of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initialisation can cause problems with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in a bad sp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itialise using statistics of train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est neigh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M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initi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itialise using an evolutionary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sation from decision 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sation from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 overcome the linear separability problem of percep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 additional layer of neur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layer of variable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greement on terminology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ci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 guaranteed over continuous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lutions also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ron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euron layer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ayer of adjustable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forwar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handle non-linearly-separab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used for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known as ML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an additional layer (or layers) of neurons to a percep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layer called hidden (or intermediate)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layer of adjustable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id-1960s, but learning algorithms not available until mid-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ctivation function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igmoid, ta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forwar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3480" y="2093760"/>
            <a:ext cx="55422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6160" y="2131920"/>
            <a:ext cx="76262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s can also have bi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as is an additional, external,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to bias node is always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performs the task of a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Layer Percep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9840" y="2046240"/>
            <a:ext cx="47754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