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689-23CE-485A-91D2-D261AB44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95F-F9A6-4896-8C97-B9537F55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E8E-3016-48F1-BACE-E411AC5C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D93-CA95-453D-9FF5-64BE4842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DE2-ECFD-4243-B48C-FCAA6CEF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1E0-CF9C-40EE-BD5A-78C047B5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373-50C9-4832-8FB9-D928AD06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571-6BA6-4A9F-B0C2-44B9630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BB4-B314-4801-80A3-A9A32BE2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626-511F-4FAB-8072-6D2FC35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D86-D41D-4F57-AB80-1F17AC9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578-D6E6-47B1-86A4-EB998D2E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0966-D43B-41F2-9DDE-F0FB3D1E9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1320" y="2165400"/>
            <a:ext cx="657864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. W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ike.watts.net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ltern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 is the capability of a decision-making system to adapt its behavior to meet its goals in a range of environmen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B. Fog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ndie24: Playing at the Edge of 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g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al Intel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Intelligence is now called Computation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an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h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cu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studying three general paradigms of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based and fuzzy systems (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Neural Networks (A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Computation (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ver different 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ree Lunch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a problem A on which the algorithm performs well, there will be a problem B on which the algorithm performs poo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is good a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-Bas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74280" y="1958760"/>
            <a:ext cx="879156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at make decisions based 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the rules can be 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p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umbers dealt with are always ex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pain in the neck to program,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inexact concepts – ‘bigger’, ‘smaller’, ‘faste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stat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 can be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-Bas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define th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said tha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ules consist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ule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all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fuzzy membership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models of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network of interconnected sub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the rules are not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are learning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need to be told the answer to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kinds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covering only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ayer Perceptrons (ML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honen Self-Organising Maps (S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networks are used depends on the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s useful for simpl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Ps handle problems perceptrons can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linearly sepa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rons and MLPs both use supervise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now the target values the network is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are unsuper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clusters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quanti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/ Computation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must be taken with the data used to train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asy to badly train an 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ircumstances where ANN don’t function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mechanisms of natural selection and biological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s fitness of (initially) random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it individuals produce more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brute-force (exhaustive) search is not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multi-parameter optim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kind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Algorithms (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Strategies (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Programming (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Programming (G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the following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 (objective)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ble to represent the problem in th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ans of encoding candidat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ans of rating candidates mus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ratings are no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/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 function must b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 function must separate good candidates from bad candi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blem dependent component of 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intelligence is hard t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attempt is the Turing Test, but not very accu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kinds of CI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 with 3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al Intel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all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by Alan Turing in 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s with the question: “Can machines think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ing thought this question abs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fine ‘think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t with it with a though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44800" y="2257560"/>
            <a:ext cx="6156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’s objective is to convince interrogator that he is a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’s objective is to help the interro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while, the interrogator must decide which is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replace the man with a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44800" y="2257560"/>
            <a:ext cx="6156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interrogator decide wrongly as often as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can the machine convince the interrogator that it is human as often as a man can pass as a wo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8680" y="658800"/>
            <a:ext cx="87915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ring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8680" y="2138400"/>
            <a:ext cx="879156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ing Test is no more a test for intelligence than it is a test for femininity… A man doesn’t become a woman because he can fool you into thinking that he’s a woman. By the same token, a machine doesn’t become…an intelligent machine, just because it can fool you into thinking that it’s think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B. Fog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ndie24: Playing at the Edge of 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g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