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ement 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inal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or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sorted according to some kind of pairwise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 reflect the order of th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 without the arithmetic properties of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al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placed on a number line with an arbitrary zero point and arbitrary int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al is the ‘gap’ between each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erical values themselves have no signific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 in values reflect differences in measure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 between two interval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true zero point (origin) and arbitrary interv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 means absence of the attribute being meas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have signific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s and ratios of numbers have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mathematical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sible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 of Measurement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to transform to weaker 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go oth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ity &amp; reliability of collect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l real-world measurement can be class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fit into more than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elect an appropriate scale at the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s measurements to the rea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s measurements from the attribute being mea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s measurements in different strength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 of a measurement determines what can be done with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use measurement the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measur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Measurement The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ness of operations o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 between measurements at different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analysis to reflect reality rather than th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t to collection and analysi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Measurement The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amental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s are not the same as the attributes (concept) to be mea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bout the attributes need to take into account the correspondence between reality and the measured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asur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peration performed over attribute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numbers to objects according to a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numbers to things so that the numbers represent relationships of the attributes being mea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asur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lusions of a statistical analysis should say something about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not be biased by arbitrary choices about the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measurement scales assists with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ement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 way of assigning numbers to measure some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transformations and statistics permitted for the measurement of different 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sible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s that preserve the relationships of the measurement proce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that measurement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scales have different permissible transformations /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ement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different measurement scale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weakest to stron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minal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classified into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rdering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set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classified into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numerical labels are totally arbit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have the same label if they have the sam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8:24:16Z</dcterms:created>
  <dc:creator/>
  <dc:description/>
  <dc:language>en-US</dc:language>
  <cp:lastModifiedBy>a1207741</cp:lastModifiedBy>
  <cp:lastPrinted>2003-08-11T08:21:14Z</cp:lastPrinted>
  <dcterms:modified xsi:type="dcterms:W3CDTF">2011-06-07T15:56:36Z</dcterms:modified>
  <cp:revision>12</cp:revision>
  <dc:subject/>
  <dc:title>Slide 1</dc:title>
</cp:coreProperties>
</file>