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1"/>
          <p:cNvSpPr/>
          <p:nvPr/>
        </p:nvSpPr>
        <p:spPr>
          <a:xfrm>
            <a:off x="2320920" y="2133720"/>
            <a:ext cx="6411960" cy="34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72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ation Theo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hael J. Wat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mike.watts.net.n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co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oding is representing symbols as b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of bits is proportional to number of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 of alphab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. bits / symbol(N) = bits * uncertainty(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certain == fewer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encoding == fewer average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com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rror Corr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ise complicates th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 of no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ror correcting codes account for no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ct a change in any one b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bits to an encoding sch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tional bits represent the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mming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in CD's and else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tion theory deals with the transmission and encoding of symbols (inform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tion is measured as how “surprising” a symbol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s in telecommunications and com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ise can interfere with a sig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ror correction is nee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formation theor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cations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suring Information and uncertain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tion entropy and en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formation Theor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1654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a of applied mathema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erned with the analysis of a “communications system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Object 3"/>
          <p:cNvGraphicFramePr/>
          <p:nvPr/>
        </p:nvGraphicFramePr>
        <p:xfrm>
          <a:off x="1257480" y="3851280"/>
          <a:ext cx="7194240" cy="252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7480" y="3851280"/>
                    <a:ext cx="7194240" cy="25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onents of Communications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the information is coming f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des the information and transmits it as a sig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n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um over which information is transmit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onents of Communications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interference added to sig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s the information and decodes it for the dest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t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receiving the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ation The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tion theory analyses the flow of information through these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uch information can go through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he information can be enco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quantify information fir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ation The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tions of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used to make a dec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that in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tion tells you something you did not already kn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antity of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we have a random variabl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an have exactl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t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state has a probabilit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(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ty of the state occurring determines its uncertain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(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pproaches 0.5, uncertainty approaches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antity of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 uncertainty == more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ore uncertain an event is, the more information is conveyed when it occu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rpris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opy is the total uncertainty over all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uncertainty of the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6T05:48:06Z</dcterms:created>
  <dc:creator/>
  <dc:description/>
  <dc:language>en-US</dc:language>
  <cp:lastModifiedBy>a1207741</cp:lastModifiedBy>
  <cp:lastPrinted>2003-08-06T10:30:51Z</cp:lastPrinted>
  <dcterms:modified xsi:type="dcterms:W3CDTF">2011-06-07T15:56:31Z</dcterms:modified>
  <cp:revision>34</cp:revision>
  <dc:subject/>
  <dc:title>Slide 1</dc:title>
</cp:coreProperties>
</file>