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"/>
          <p:cNvSpPr/>
          <p:nvPr/>
        </p:nvSpPr>
        <p:spPr>
          <a:xfrm>
            <a:off x="2320920" y="2133720"/>
            <a:ext cx="641196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J. 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mike.watts.net.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t Prob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two events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s can be either dependent or indepen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not be mutually exclu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dependent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ndependent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3"/>
              <p:cNvSpPr txBox="1"/>
              <p:nvPr/>
            </p:nvSpPr>
            <p:spPr>
              <a:xfrm>
                <a:off x="1527120" y="4689360"/>
                <a:ext cx="3183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541520" y="5896080"/>
                <a:ext cx="2840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theory is widely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vily use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describe how to calculate prob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rence of some events modify probability of other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of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al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t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quantifies the chances of an event hap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um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day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Prob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d before samples are dra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all possible outcomes and weigh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ir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d by experiment /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must be su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d without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ws of Prob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d as value between zero and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/ always 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ies sum to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ossibl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ually exclusive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t / independent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ws of Prob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one ev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other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mutually exclu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1531800" y="3854520"/>
                <a:ext cx="31608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ws of Prob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061720"/>
            <a:ext cx="8607600" cy="29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icatio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both one ev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other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not be mutually exclu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independent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"/>
              <p:cNvSpPr txBox="1"/>
              <p:nvPr/>
            </p:nvSpPr>
            <p:spPr>
              <a:xfrm>
                <a:off x="1527120" y="4362480"/>
                <a:ext cx="31323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∩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ws of Prob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171252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law of ad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one ev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other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to be mutually exclu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1557360" y="3459240"/>
                <a:ext cx="4734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∩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come of one event is conditional on outcome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s are neither independent nor mutually exclu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outcome of first event modifies probability of second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1109520" y="5462640"/>
                <a:ext cx="3549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∩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8:19:37Z</dcterms:created>
  <dc:creator/>
  <dc:description/>
  <dc:language>en-US</dc:language>
  <cp:lastModifiedBy>a1207741</cp:lastModifiedBy>
  <cp:lastPrinted>2003-08-04T09:50:44Z</cp:lastPrinted>
  <dcterms:modified xsi:type="dcterms:W3CDTF">2011-06-07T15:56:27Z</dcterms:modified>
  <cp:revision>40</cp:revision>
  <dc:subject/>
  <dc:title>Slide 1</dc:title>
</cp:coreProperties>
</file>