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 and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in an XML document describ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are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in the DTD describe th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for th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exibility of XML illustrates the use of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 add bu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with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are pla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with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is data ab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to help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ing data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for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a metadata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widely used to transfer data betwee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eta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for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and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ta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b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ab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a set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ta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has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can describ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n object describ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21348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for rapid 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21348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metadata fields vs large 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xchange data using mutually agreed metadata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ags to describe 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defined by the W3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for data exchange ov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 predefin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nodes, sub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6076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127160" y="2152800"/>
            <a:ext cx="784872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itle&gt;Mr.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rstname&gt;John&lt;/firstna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astname&gt;Smith&lt;/lastna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na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reet-address&gt;1000 Main Street&lt;/street-addres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ity&gt;Los Alamitos&lt;/city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&gt;CA&lt;/stat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zip&gt;90720&lt;/zi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teven J. Vaughan-Nichols, “XML Raises Concerns as it Gains Prominence”, IEEE Computer, May 2003, pg14-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in XML described by 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Typ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ll-form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tags are m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s are clo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documen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conforms to the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2:31:14Z</dcterms:created>
  <dc:creator/>
  <dc:description/>
  <dc:language>en-US</dc:language>
  <cp:lastModifiedBy>a1207741</cp:lastModifiedBy>
  <cp:lastPrinted>2003-07-30T09:12:08Z</cp:lastPrinted>
  <dcterms:modified xsi:type="dcterms:W3CDTF">2011-06-07T15:56:22Z</dcterms:modified>
  <cp:revision>41</cp:revision>
  <dc:subject/>
  <dc:title>Slide 1</dc:title>
</cp:coreProperties>
</file>