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2320920" y="2133720"/>
            <a:ext cx="641196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J.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ike.watts.net.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ontrol access to finite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rol pumps, checkouts, pr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tial acces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or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with sear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y of storing data values in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dimension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nodes and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are data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connect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of an item in the structure depends on the value of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types of tree in 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vigate by the vales of the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faster than sequential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't need to examine every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 level to the tree adds just one more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evel can have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speed scales as to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items in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zero or more sub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and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 without a subtree is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ode is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in left subtree are sma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in right subtree are gr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for efficient sear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for value of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used in inde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s, fil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egen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omes 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L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l'son-Vel'skii and Landis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d binary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 between left and right subtree differ by at most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measured between bottom-most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 difference maintained by ro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/ double rotate left /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L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't become degen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efficient sear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o the theoretical 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ons can be exp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 insertions / dele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optimisations for in-order it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f a data structure is problem depen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and structures are built into most programming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ks are often used for temporary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ues control access to a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s are efficient for retrie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s can degen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L trees ar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f an appropriate data structure is an important part of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ice depends 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e of new data acquisition / inse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of data being st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ed method of data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data structure for most programming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data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a single data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 MATLAB cell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 accessed by index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with searching for specific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for fixed numbers of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of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s of MAT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dimensional matrices ar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7720" indent="-2786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w / column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&gt; 2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ed via row / column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problems with searching as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certain mathematical operations eas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named piece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data types within a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within a structure are called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 accessed by fiel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for grouping related item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 stack of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est items are at the bot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est items are at the t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items are 'pushed' onto the top of the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ieved items are 'popped' off of the top of the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in, last out data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used to provide temporary storage of data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't be sear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to pop each value out to find the one you're looking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to i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for evaluating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 queue at the super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tial data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est items are at the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est items are at the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are 'enqueued' at 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are 'dequeued' at the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in, first out data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03:10:56Z</dcterms:created>
  <dc:creator/>
  <dc:description/>
  <dc:language>en-US</dc:language>
  <cp:lastModifiedBy>a1207741</cp:lastModifiedBy>
  <cp:lastPrinted>2003-07-28T08:47:44Z</cp:lastPrinted>
  <dcterms:modified xsi:type="dcterms:W3CDTF">2011-06-07T15:56:14Z</dcterms:modified>
  <cp:revision>51</cp:revision>
  <dc:subject/>
  <dc:title>Slide 1</dc:title>
</cp:coreProperties>
</file>