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and Sound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2098EC3-C63D-4342-8845-56AF155627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perations can be performed on imag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st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vs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re used to make the information in an image easier to compreh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A48064-C039-455E-A8F5-B05011C70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ou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bration in a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v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d vs synthes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wav vs .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FC90B4F-4E7B-4E87-8BB0-5762ACE48E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is digitised via 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sample is determin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tz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per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E7AC51-A1C6-431B-9CBB-B8526E4A64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d soun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're the advantages of e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 Layer 2 and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p2 / .m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sised soun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1514692-816A-43DD-9683-8BEBE13C71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s represent data in a visual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ata is represented depends on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to los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data represents analogue wave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ampled or synthes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to los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 vs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76BCAD8-AB31-40B4-BE2F-7CC959E576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1446257-CD1F-4EFA-8E65-E03981A841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im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a visual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s on a computer are displayed as 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ixel is one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75B2992-9D92-435A-AF7F-5D5A58C2A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s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ter v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ter represents each pi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represents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 files combine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focus on raster repres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ABE9E3E-47E5-4CCF-9CBA-EEE3E9F32C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s divided into regularly sized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ixel is one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ixels / unit length =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s / pixel = number of colours / pi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2, 4, 8, 16, 24 bit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colours 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ize is a function of resolution and bits / pix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31C69F-88F2-422C-8CD8-C943C77CBD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all raster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're the advantages of e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7EBE56B-A90E-4BC3-BFF2-9ADA2F952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Formats /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LAB has four methods of represent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use the first two in Lab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2654A18-3AE8-48D9-BDD0-9113360B1F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Formats /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trix and a colou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w of the map represents the RGB components of a pixel in th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alue in the matrix represents an intensity between black (0) and whit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1F4512F-0D5B-4C2F-B37B-8EF4C38DD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Formats /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alue is either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B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/ Green / 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x N x 3 (3D)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xel colour determined by combination of RGB values in each “colour pla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213840" y="7216920"/>
            <a:ext cx="1274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81E254F-B662-4DCC-B75D-19E08A592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8:21:47Z</dcterms:created>
  <dc:creator/>
  <dc:description/>
  <dc:language>en-US</dc:language>
  <cp:lastModifiedBy>a1207741</cp:lastModifiedBy>
  <cp:lastPrinted>2003-07-23T08:49:20Z</cp:lastPrinted>
  <dcterms:modified xsi:type="dcterms:W3CDTF">2011-06-07T15:56:10Z</dcterms:modified>
  <cp:revision>27</cp:revision>
  <dc:subject/>
  <dc:title>Slide 1</dc:title>
</cp:coreProperties>
</file>