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ative and quantitative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ative and Quantitativ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perations can be performed on qualita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perations can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lue &lt; gre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o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data can be transformed into quantita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=1, Blue=2, Red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 must be performed wi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ust be meaning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should allow analyses that reflect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can do with data is defined i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theory (lecture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that the numbers reflect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measurement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s of assigning numbers to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determines what can be done with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terpret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data mea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ing it into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t to construct a model of rea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ng statistics of quantit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tatistics are appropri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of qualitative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data from A 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nnon's 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greed definitions of data a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 is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is not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y governs how data is transformed and interpr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and Quantita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present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s that describe properties of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s data that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a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isolation is meaning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context i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provides meaning to a rec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hat informs i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decisions without information, or without being informed is called guess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ggs Library Research Guide, SD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(facts) can be stored in 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interpreted to provid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ative and Quantitativ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eneral kind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kind of data a fact is depend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data re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represen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ative and Quantitativ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data is word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of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nex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, thin,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ative and Quantitativ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 data is nume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Cels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 in k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in me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5:46:34Z</dcterms:created>
  <dc:creator/>
  <dc:description/>
  <dc:language>en-US</dc:language>
  <cp:lastModifiedBy>a1207741</cp:lastModifiedBy>
  <cp:lastPrinted>2003-07-16T15:26:42Z</cp:lastPrinted>
  <dcterms:modified xsi:type="dcterms:W3CDTF">2011-06-07T15:51:00Z</dcterms:modified>
  <cp:revision>65</cp:revision>
  <dc:subject/>
  <dc:title>Slide 1</dc:title>
</cp:coreProperties>
</file>