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ier and Wavelet Transform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ier transforms break signals into component sinuso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many signal process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FT applied to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T is an implementation of D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t transforms break signal into component wave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signal compression among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ier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and Fast Fourier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t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sign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a variable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things can be treated as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processing is an important field in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cement in a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s are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s can interfere with one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waves can be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large (possibly infinite) number of component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isation of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domain is tra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v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domain is more useful fo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ier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a signal into the frequency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s signal i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many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the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sup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ch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ier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Fourier Trans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discretised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go, digital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Fourier Trans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t implementation of the D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ame thing qui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velet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wavel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d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value of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velet fades in and fades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t analysis breaks a signal into its component wave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vele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t coefficients can be recombined to form the original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ts have many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fil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ts are used when FFT don'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1:30:08Z</dcterms:created>
  <dc:creator/>
  <dc:description/>
  <dc:language>en-US</dc:language>
  <cp:lastModifiedBy>a1207741</cp:lastModifiedBy>
  <cp:lastPrinted>2003-09-17T13:25:21Z</cp:lastPrinted>
  <dcterms:modified xsi:type="dcterms:W3CDTF">2011-06-07T15:57:23Z</dcterms:modified>
  <cp:revision>18</cp:revision>
  <dc:subject/>
  <dc:title>Slide 1</dc:title>
</cp:coreProperties>
</file>