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Linear Transform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ier and Wavelet Trans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ther important families of non-linear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ier is based on decomposing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ignals are composed of simple sinus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let is based on restricted wave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better results than Fourier trans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linear transforms alter the distribution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used to transform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image transformations are based on con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ier and wavelet transforms are other non-linear 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vs Non-linear 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linear 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ier and Wavelet trans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vs Non-linear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transformations use a linea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linear functions use a non-linea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transformations maintain the distribution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tretch th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ve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hift th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vs Non-linear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linear transformations alter the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the distribution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out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the distribution uni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linear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applicable to ratio scale or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quire true zero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of negative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trans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of 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image processing transformations are non-li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bel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a small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 is slid over the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one pixel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in the kernel are used to transform values in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of many image process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bel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a con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have high contr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s the gradient between adjacent groups of pix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pecific kernel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n fi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of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ine groups of pix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spikes in int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method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non-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2:14:35Z</dcterms:created>
  <dc:creator/>
  <dc:description/>
  <dc:language>en-US</dc:language>
  <cp:lastModifiedBy>a1207741</cp:lastModifiedBy>
  <cp:lastPrinted>2003-09-15T14:10:02Z</cp:lastPrinted>
  <dcterms:modified xsi:type="dcterms:W3CDTF">2011-06-07T15:57:18Z</dcterms:modified>
  <cp:revision>39</cp:revision>
  <dc:subject/>
  <dc:title>Slide 1</dc:title>
</cp:coreProperties>
</file>