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nd Linear Transform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linea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ransform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hange the image via some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formations have several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inear or non-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pplied to most typ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vs Non-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mani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th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the way the numbers are arr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linear or non-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/ Non-rever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data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ata dimens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it for further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amount of data to be 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the quality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imilarities betwee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understanding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 Non-Lin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transform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line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aw data vector x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inear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=2x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non-line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c) of a raw data vector such that F is a non-linear function of x,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be log functions, 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=1+2log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4157640" y="5870520"/>
                <a:ext cx="1581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scale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s from one range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inear or non-linea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hange the distribution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norm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mean / S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serie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s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s a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s a moving window over the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the mean of the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major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resses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ubset from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size of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o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serie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values to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continuous values with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size of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 from interval scale to ordinal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information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6:07:44Z</dcterms:created>
  <dc:creator/>
  <dc:description/>
  <dc:language>en-US</dc:language>
  <cp:lastModifiedBy>a1207741</cp:lastModifiedBy>
  <cp:lastPrinted>2003-09-10T12:43:10Z</cp:lastPrinted>
  <dcterms:modified xsi:type="dcterms:W3CDTF">2011-06-07T15:57:13Z</dcterms:modified>
  <cp:revision>26</cp:revision>
  <dc:subject/>
  <dc:title>Slide 1</dc:title>
</cp:coreProperties>
</file>