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lus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anc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Means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 similar item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s items into sub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ingle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uses distance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quant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ance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stance measure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clid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halano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useful in different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Means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clustering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lection of number of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, can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s on selection of clusters / s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Means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sele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ed examples as initial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calculate the distance from each centre to each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assign each example to the nearest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calculate new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repeat steps 2-4 until a stopping condition is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lled agglomerative hierarchical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s a tr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d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examples are lower down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uster is treated as a singl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lusters are grouped into a super-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 in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Calculate distance between each pair of v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Merge closest two vectors /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ntity has average of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Re-calculate the di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Repeat 1-3 until all vectors / entities are mer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ing groups together similar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y is measured by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stance measure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Means groups examples into individual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groups examples into ever-smalle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9:06:40Z</dcterms:created>
  <dc:creator/>
  <dc:description/>
  <dc:language>en-US</dc:language>
  <cp:lastModifiedBy>a1207741</cp:lastModifiedBy>
  <cp:lastPrinted>2003-09-08T11:46:05Z</cp:lastPrinted>
  <dcterms:modified xsi:type="dcterms:W3CDTF">2011-06-07T15:57:09Z</dcterms:modified>
  <cp:revision>29</cp:revision>
  <dc:subject/>
  <dc:title>Slide 1</dc:title>
</cp:coreProperties>
</file>