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 Selection and Extra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methods support feature ex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extraction reduces the dimensionality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visu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jor feature extrac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ressio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of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 componen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componen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ressio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s one variable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/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the “line of best f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s 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t squares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ses the squar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of Var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 of determining if there is a significant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multipl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 Ex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relevant variables in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dimens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visu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ie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that affect th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are secondary/un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 Ex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between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e /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set of featur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important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redund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Componen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extrac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correlated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are un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from variance of each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Componen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s components by order of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s most var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thog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ndicular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re combined and extra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ends up in one principal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duces dimens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Componen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independent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variables are linear combinations of the independen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 is claimed to be more powerful than P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s signal from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ktail party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05:21:59Z</dcterms:created>
  <dc:creator/>
  <dc:description/>
  <dc:language>en-US</dc:language>
  <cp:lastModifiedBy>a1207741</cp:lastModifiedBy>
  <cp:lastPrinted>2003-08-27T12:24:36Z</cp:lastPrinted>
  <dcterms:modified xsi:type="dcterms:W3CDTF">2011-06-07T15:57:04Z</dcterms:modified>
  <cp:revision>35</cp:revision>
  <dc:subject/>
  <dc:title>Slide 1</dc:title>
</cp:coreProperties>
</file>