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Distrib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 Gauss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atistical tests assume a norma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distribution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Symmetr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Bell-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summarise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deal with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should be appropriate for the scale of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tatistical measures tell us different things about the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ness of statistica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s with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s represent a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parameters summarise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are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priat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s are made on different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ted operations depend on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cause you can represent something as a number, doesn't mean you can perform statistical operations on those numb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/ Me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is the most frequent value in the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 nominal scale and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measures central tend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centre of the value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ddle of a set of orde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-point of th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 ordinal scale and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measure of central tend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eanings to this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is arithmetic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lue that represents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 interval scale and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ersion about th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dely spread the sampl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ation fro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 interval scale and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from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describes spread of a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 interval scales and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from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ble to ratio scales and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 distribution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s range into regular 'bin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examples that fall into each 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ted as a ba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one with ordinal or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6:58:10Z</dcterms:created>
  <dc:creator/>
  <dc:description/>
  <dc:language>en-US</dc:language>
  <cp:lastModifiedBy>a1207741</cp:lastModifiedBy>
  <cp:lastPrinted>2003-08-25T10:35:08Z</cp:lastPrinted>
  <dcterms:modified xsi:type="dcterms:W3CDTF">2011-06-07T15:56:58Z</dcterms:modified>
  <cp:revision>26</cp:revision>
  <dc:subject/>
  <dc:title>Slide 1</dc:title>
</cp:coreProperties>
</file>