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Language 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s tokens into grammatical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s that expressions match gram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ers can be generated from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CC/B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s have specific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across natural and machin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defin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/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expressions define sets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r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ing is breaking strings up into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s of alphabet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formed string in a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mmatically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e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vs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by a gram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hierarchy of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msky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restricted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-sensitiv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r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programming languages are context-free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 definition of a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t within Chomsky's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mput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ed as product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-&gt;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r 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from the elements of the alphab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three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eene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gular set can be described with a regular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 sets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expressions are used extensively in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ing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pa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ing tokens in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ing a string into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finite state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es 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3:10:09Z</dcterms:created>
  <dc:creator/>
  <dc:description/>
  <dc:language>en-US</dc:language>
  <cp:lastModifiedBy>a1207741</cp:lastModifiedBy>
  <cp:lastPrinted>2003-08-20T10:41:10Z</cp:lastPrinted>
  <dcterms:modified xsi:type="dcterms:W3CDTF">2011-06-07T15:56:53Z</dcterms:modified>
  <cp:revision>39</cp:revision>
  <dc:subject/>
  <dc:title>Slide 1</dc:title>
</cp:coreProperties>
</file>