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in computers are represented in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two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/ floa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/ double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ing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machines are the basis of computer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function that can be computed by a Turing machine in comp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are not comp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are in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representation of numbers in comp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heoret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of modern comp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a digita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with an infinitely long t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pe has a finite number of non-blank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quare has a symbol from a finite alpha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read-write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s a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+ curren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 new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left or right on the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until it reaches an unknow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puter languages and architectures are equivalent to Turing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al Turing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instructions off of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eterministic Turing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a write-only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 guess at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internal “ru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is computable if can be computed with a Turing machi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ms.org/new-in-math/cover/turin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 input -&gt; algorithm -&gt; correct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are not comp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nomial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eterministic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-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ptimisation problems are NP-complete or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ilton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ling sale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teps is an exponential function of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br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al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b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4:21:07Z</dcterms:created>
  <dc:creator/>
  <dc:description/>
  <dc:language>en-US</dc:language>
  <cp:lastModifiedBy>a1207741</cp:lastModifiedBy>
  <cp:lastPrinted>2003-08-18T09:39:12Z</cp:lastPrinted>
  <dcterms:modified xsi:type="dcterms:W3CDTF">2011-06-07T15:56:48Z</dcterms:modified>
  <cp:revision>30</cp:revision>
  <dc:subject/>
  <dc:title>Slide 1</dc:title>
</cp:coreProperties>
</file>