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Com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unhofer / MP3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9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y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ssion of audio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ptual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-acoust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s out what can't be he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ing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is further com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Huffman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3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usable on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MPEG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her widely used by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PEG 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t Photographic Experts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mpress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sses groups of pix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Discrete Cosine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ses the results of the D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compression is a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ssion is an application of information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es long strings as shorter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chemes depend on redundant / repetitiv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gotc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ression algorithm cannot compress its own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easily compress completely random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-20916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/ little redund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compre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ffman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pel-Ziv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unhofer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PEG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mpres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tion of the length of symbols used to re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s can be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edund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less vs los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 of compression depends on amount of redund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data compres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mpres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symbols with code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ymbol == one code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of codeword &lt; length of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lgorithms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ff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mpel-Z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ffman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probability (frequency)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codewords as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 binary tree based on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/ high probability symbols at the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equent / low probability symbols lower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es labelled with 0 and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t symbols get short bit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equent symbols get longer bit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ffman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3360" y="1837800"/>
            <a:ext cx="902808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nge symbols in order of decreasing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two symbols with lowest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a new name, add their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build th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the next two lowest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until there is one symbol, with probability of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a binary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codewords by tracing down the tree to the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ffman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ression is the opposite of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bit sequence to a terminal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s to see the entire data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know symbol prob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mbined with other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3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mpel-Z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ctionary based enc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s phrases with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s smaller than the phr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s input stream to compressed output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't need to see entire data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ionary is built as it moves through the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mpel-Z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s input stream into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oken represents the shortest phrase that has not been s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s are numb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s contain othe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ssion is inefficient at the 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r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8:24:16Z</dcterms:created>
  <dc:creator/>
  <dc:description/>
  <dc:language>en-US</dc:language>
  <cp:lastModifiedBy>a1207741</cp:lastModifiedBy>
  <cp:lastPrinted>2003-08-13T11:12:42Z</cp:lastPrinted>
  <dcterms:modified xsi:type="dcterms:W3CDTF">2011-06-07T15:56:41Z</dcterms:modified>
  <cp:revision>44</cp:revision>
  <dc:subject/>
  <dc:title>Slide 1</dc:title>
</cp:coreProperties>
</file>