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"/>
          <p:cNvSpPr/>
          <p:nvPr/>
        </p:nvSpPr>
        <p:spPr>
          <a:xfrm>
            <a:off x="2320920" y="2133720"/>
            <a:ext cx="6411960" cy="34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Data Process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hael J. Wat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mike.watts.net.n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Analysis and Trans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we will cover in this s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stic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ature selection and ex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 &amp; non-linear trans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ation of Data and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issues in this section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you visualise dat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you design user interfac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you communicate data to the us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study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becomes information when it is presented to a u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appropriate presentation of data can have fatal con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ation of Data and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covered in this section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gnitive factors of H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ing UI and communicating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isation of data in 2 &amp; 3 dim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ability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's it all abou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9000"/>
          </a:bodyPr>
          <a:p>
            <a:pPr marL="427320" indent="-3204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information system has to deal with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non-trivial system will have to collect, process and presen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we need to underst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000" indent="-2844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s and types of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000" indent="-2844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ata is represented and sto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000" indent="-2844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heory of information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000" indent="-2844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ata is analysed and transfor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000" indent="-2844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ata is presented to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 and Types of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issues in this section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does data come fr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processes do the data repres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sues are involved in collecting dat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study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standing the problem is crucial to developing a system to represen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data is collected improperly it is use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 and Types of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we will cover in this s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titative and qualitativ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romolecular and physic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 and soun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Representation and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issues in this section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is data represented and stor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ata structures are appropriate for particular applica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study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implementing an information system, it is necessary to stor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rrect choice will make implementing the system much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Representation and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we will cover in this s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ory of Information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study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practical methods are based on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understanding of the theory will assist in making the appropriate choices when creating an information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understanding of theory can stop you doing something stup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ory of Information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we will cover in this s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com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ment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l language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Analysis and Trans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topics in this section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data analys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data transform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methods are appropriate for different data se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study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 of data aids understanding the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ation of data can eas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8T05:35:37Z</dcterms:created>
  <dc:creator/>
  <dc:description/>
  <dc:language>en-US</dc:language>
  <cp:lastModifiedBy>a1207741</cp:lastModifiedBy>
  <cp:lastPrinted>2003-07-15T02:48:09Z</cp:lastPrinted>
  <dcterms:modified xsi:type="dcterms:W3CDTF">2011-06-07T15:50:51Z</dcterms:modified>
  <cp:revision>60</cp:revision>
  <dc:subject/>
  <dc:title>Slide 1</dc:title>
</cp:coreProperties>
</file>